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9D46-503A-4E89-BA99-D491D8A11F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697A-95B8-46C4-80EF-B29F5F9768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770-BA7E-4B48-AEE8-C531955E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9EF-C632-4662-A6F1-4E664890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993-9766-45D4-A790-4D36D34D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D1A-ED5B-4866-8116-5303C842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399D-EA4F-4FA9-868F-76EDB36A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60C3-C5BE-4706-844D-FAFB2091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09D1-76DD-49D9-90EA-13057498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A760-05CC-491D-B997-9CAA7981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19B2-A136-408B-B818-567FC0C0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4202-1F85-46B4-9BF7-EF08B27B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8E7F-5D9C-4023-A232-11BDD53E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BDAC-D530-4E4E-81CE-DCE3B3C2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9DEF-0F82-4659-A816-91C88EC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1BB8-2B9B-49F2-99BB-781AD1A1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C2AB-E282-425F-B813-34F9BEB5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228C-9068-40B4-9A16-B52C307D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73CA-DC1E-4A59-AE26-FCF891F2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33CC-C918-42CE-B9F6-0A9FA45E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BE92-84B7-4373-8292-29FFEF04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45075-9C0C-43CB-BD83-32D9D8D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67C70-0F22-4890-9B84-5E2B2A03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99C9-7B16-449E-83B0-AB453DF8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7C4-E14D-4844-B6ED-815AFB22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84CDC-9D14-419A-A029-33E36A75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E6202-9709-47DF-A306-2E63EC52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FB52-ADE6-47FD-9044-B57E257E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91694-2A9A-4C97-8AC7-A7A6363D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6F1D-4A45-4905-B74D-E7F6ED3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49F1-8C35-4615-BF47-A4644C11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0AD44-465C-45A8-920F-57BBD9F2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CD0-AA43-408A-B531-4667634A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F0B-E8AE-4C9C-8D0C-5DF2D278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32F-8E78-49DB-8822-D4CA89E0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AE3-73F0-4326-A28E-293DC090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862-628F-455E-9CF2-1FE5E81E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8FA4-60E7-4421-8E75-73820880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5C0E-7B52-4901-8EBF-C03EAEBE9A93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14400" y="-1440"/>
            <a:ext cx="40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091-9D37-48FC-B0FA-B718D554DE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666F-77D7-4108-9FB3-FB3A95ED44D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-360" y="7920"/>
            <a:ext cx="4683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E807-BAB3-4B37-A3DC-532658BEEE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BC97-DED7-4533-8720-E7E6A5EBEE14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0" y="0"/>
            <a:ext cx="39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544D-9212-488C-8A5B-F809011B04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09600" y="3213000"/>
            <a:ext cx="8524800" cy="1861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bstantiation of technical solutions of inter-car transitions based on multibody mod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  <a:ea typeface="Times New Roman"/>
              </a:rPr>
              <a:t>Обоснование технических решений межвагонных переходов на основе твердотельного математического моделир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888840" y="2349360"/>
            <a:ext cx="734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dimir Kobischanov, Dmitry Antipin, Evgeny Chechulin</a:t>
            </a:r>
            <a:br>
              <a:rPr sz="2200"/>
            </a:b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.В. Кобищанов  Д.Я. Антипин  Е.С. Чечу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49400" y="530064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V International Scientific and Technical Workshop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Computer simulation in railway transport: dynamics, strength, wear”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-4 April 2018, Bryansk, Rus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0" y="1125360"/>
            <a:ext cx="914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Railway Rolling Stocks</a:t>
            </a:r>
            <a:br>
              <a:rPr sz="1600"/>
            </a:br>
            <a:r>
              <a:rPr b="1" i="1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афедра «Подвижной состав железных дорог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9360" y="3445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yansk State Technical University</a:t>
            </a:r>
            <a:br>
              <a:rPr sz="2000"/>
            </a:b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Брянский государственный технический университ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18C-3E09-436C-824C-4F4FC06B6874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ик 2"/>
          <p:cNvSpPr/>
          <p:nvPr/>
        </p:nvSpPr>
        <p:spPr>
          <a:xfrm>
            <a:off x="803160" y="3999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данные для проведения исслед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84240" y="981000"/>
            <a:ext cx="875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лось движения сцепа из пяти вагонов по неровностям пу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м участ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коростном интервале 40-160 км/ч  с шагом 20 км/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ивы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оростном интервале 40-160 км/ч  с шагом 20 км/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шёрстное перемещение вагон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елочному переводу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рестовиной марки 1/11 в скоростном интервале 5-50 км/ч с шагом 5 км/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6"/>
          <p:cNvSpPr/>
          <p:nvPr/>
        </p:nvSpPr>
        <p:spPr>
          <a:xfrm>
            <a:off x="84240" y="245916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оделировании движения вагона учитывались микронеровности пути. Случайные неровности пути формировались на основании функции спектральной плотности, равноценной расчётной неровности в горизонтальном и вертикальном направлениях, определяемой по методике, приведенной в РД 32.68-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87280" y="4005360"/>
          <a:ext cx="6427800" cy="2587680"/>
        </p:xfrm>
        <a:graphic>
          <a:graphicData uri="http://schemas.openxmlformats.org/drawingml/2006/table">
            <a:tbl>
              <a:tblPr/>
              <a:tblGrid>
                <a:gridCol w="462240"/>
                <a:gridCol w="3354120"/>
                <a:gridCol w="630360"/>
                <a:gridCol w="744480"/>
                <a:gridCol w="627120"/>
                <a:gridCol w="609480"/>
              </a:tblGrid>
              <a:tr h="243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ус кривой,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прямого участка,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переходной кривой,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основной кривой, 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ышение наружной рельс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и над внутренней, м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 выхода из кривой,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длина расчетной кривой,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прохождения кривой, км/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Прямоугольник 10"/>
          <p:cNvSpPr/>
          <p:nvPr/>
        </p:nvSpPr>
        <p:spPr>
          <a:xfrm>
            <a:off x="3018960" y="3659040"/>
            <a:ext cx="30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 расчетных крив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441A-64F9-4F79-9E97-1A62E4A51782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803160" y="3999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al experiments /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сходные да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84240" y="981000"/>
            <a:ext cx="8756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 set of 5 cars was considered under the following condi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 tr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speeds within [40..160 km/h] interval with step of 20 km/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speeds within [40..160 km/h] interval with step of 20 km/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es 1/11 with speeds  within [5-50 km/h] with step of 5 km/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takes into account railway track irregularities that were generated based on industry standard 32.68-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Рассматривалось движения сцепа из пяти вагонов по неровностям пути</a:t>
            </a:r>
            <a:r>
              <a:rPr b="0" lang="en-US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на прямом участке</a:t>
            </a:r>
            <a:r>
              <a:rPr b="0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в скоростном интервале 40-160 км/ч  с шагом 20 км/ч</a:t>
            </a:r>
            <a:r>
              <a:rPr b="0" lang="en-US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 кривых </a:t>
            </a:r>
            <a:r>
              <a:rPr b="0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 скоростном интервале 40-160 км/ч  с шагом 20 км/ч</a:t>
            </a:r>
            <a:r>
              <a:rPr b="0" lang="en-US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отивошёрстное перемещение вагона </a:t>
            </a: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о стрелочному переводу  </a:t>
            </a:r>
            <a:r>
              <a:rPr b="0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 крестовиной марки 1/11 в скоростном интервале 5-50 км/ч с шагом 5 км/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и моделировании движения вагона учитывались микронеровности пути. Случайные неровности пути формировались на основании функции спектральной плотности, равноценной расчётной неровности в горизонтальном и вертикальном направлениях, определяемой по методике, приведенной в РД 32.68-9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E822-B844-4D1D-96E6-7D563AC6619E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993600" y="1228680"/>
            <a:ext cx="2826000" cy="378468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2"/>
          <p:cNvSpPr/>
          <p:nvPr/>
        </p:nvSpPr>
        <p:spPr>
          <a:xfrm>
            <a:off x="1004760" y="87804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laces to mount extra dampers</a:t>
            </a:r>
            <a:br>
              <a:rPr sz="1400"/>
            </a:b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оны установки гасителей колеба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857160" y="115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nting of dampers</a:t>
            </a:r>
            <a:br>
              <a:rPr sz="2400"/>
            </a:b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хемы размещения гасителей колеб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4545000" y="907920"/>
            <a:ext cx="41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hemes of mounting extra damp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Схемы установки гасителей колеба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2740320" y="5013360"/>
            <a:ext cx="366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for mounting extra damp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ритерии выбора зон установки гас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395280" y="5589720"/>
            <a:ext cx="860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maximal efficiency of dampers / </a:t>
            </a:r>
            <a:r>
              <a:rPr b="0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обеспечение максимальной эффективности работы гасител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ly curving including sharp curves / </a:t>
            </a:r>
            <a:r>
              <a:rPr b="0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безопасность прохождения кривых участков пути</a:t>
            </a:r>
            <a:r>
              <a:rPr b="0" lang="en-US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(</a:t>
            </a:r>
            <a:r>
              <a:rPr b="0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малого радиуса</a:t>
            </a:r>
            <a:r>
              <a:rPr b="0" lang="en-US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)</a:t>
            </a:r>
            <a:r>
              <a:rPr b="0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ng enough strength for mounting point / </a:t>
            </a:r>
            <a:r>
              <a:rPr b="0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обеспечение прочности зон крепления гасител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effect for visual car inspection / </a:t>
            </a:r>
            <a:r>
              <a:rPr b="0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оздание минимальных помех осмотру и обслуживани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7" descr=""/>
          <p:cNvPicPr/>
          <p:nvPr/>
        </p:nvPicPr>
        <p:blipFill>
          <a:blip r:embed="rId2"/>
          <a:srcRect l="0" t="0" r="0" b="4344"/>
          <a:stretch/>
        </p:blipFill>
        <p:spPr>
          <a:xfrm>
            <a:off x="5651640" y="1484280"/>
            <a:ext cx="158724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4536-A7F9-471B-B1CB-B93FE83FA8CA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162000" y="4076640"/>
            <a:ext cx="43387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ateral accelerations for different speed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 damping coeffic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горизонтальных ускорений а</a:t>
            </a:r>
            <a:r>
              <a:rPr b="1" lang="ru-RU" sz="1400" spc="-1" strike="noStrike" baseline="-25000">
                <a:solidFill>
                  <a:srgbClr val="7f7f7f"/>
                </a:solidFill>
                <a:latin typeface="Times New Roman"/>
                <a:ea typeface="Calibri"/>
              </a:rPr>
              <a:t>г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от скорости движ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v 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и  коэффициента вязкого тр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β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в кривы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3"/>
          <p:cNvSpPr/>
          <p:nvPr/>
        </p:nvSpPr>
        <p:spPr>
          <a:xfrm>
            <a:off x="4716360" y="4076640"/>
            <a:ext cx="4364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rame force in curves for different speed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 damping coeffic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рамной силы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H</a:t>
            </a:r>
            <a:r>
              <a:rPr b="1" lang="ru-RU" sz="1400" spc="-1" strike="noStrike" baseline="-25000">
                <a:solidFill>
                  <a:srgbClr val="7f7f7f"/>
                </a:solidFill>
                <a:latin typeface="Times New Roman"/>
                <a:ea typeface="Calibri"/>
              </a:rPr>
              <a:t>р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в кривых от скорости движ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v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и коэффициента вязкого тр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оугольник 10"/>
          <p:cNvSpPr/>
          <p:nvPr/>
        </p:nvSpPr>
        <p:spPr>
          <a:xfrm>
            <a:off x="395280" y="185760"/>
            <a:ext cx="89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al value of damping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ыбор рационального значения коэффициента вязкого трения гас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3" descr=""/>
          <p:cNvPicPr/>
          <p:nvPr/>
        </p:nvPicPr>
        <p:blipFill>
          <a:blip r:embed="rId1"/>
          <a:stretch/>
        </p:blipFill>
        <p:spPr>
          <a:xfrm>
            <a:off x="92160" y="1125360"/>
            <a:ext cx="89596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23A4-E6FC-464D-9F42-56747B313392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162000" y="4076640"/>
            <a:ext cx="433872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ide comfort  index  in curves for different speed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 damping coeffic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показателя плавности хода в горизонтальной плоскости W</a:t>
            </a:r>
            <a:r>
              <a:rPr b="1" lang="ru-RU" sz="1400" spc="-1" strike="noStrike" baseline="-25000">
                <a:solidFill>
                  <a:srgbClr val="7f7f7f"/>
                </a:solidFill>
                <a:latin typeface="Times New Roman"/>
                <a:ea typeface="Calibri"/>
              </a:rPr>
              <a:t>г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в кривых от скорости движ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v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и коэффициента вязкого тр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716360" y="4076640"/>
            <a:ext cx="4364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aximum lateral forces for different speed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 damping coeffic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максимальных сил отжатия рельса F</a:t>
            </a:r>
            <a:r>
              <a:rPr b="1" lang="ru-RU" sz="1400" spc="-1" strike="noStrike" baseline="-25000">
                <a:solidFill>
                  <a:srgbClr val="7f7f7f"/>
                </a:solidFill>
                <a:latin typeface="Times New Roman"/>
                <a:ea typeface="Calibri"/>
              </a:rPr>
              <a:t>ymax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в кривых от скорости движ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v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и коэффициента вязкого тр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рямоугольник 10"/>
          <p:cNvSpPr/>
          <p:nvPr/>
        </p:nvSpPr>
        <p:spPr>
          <a:xfrm>
            <a:off x="395280" y="185760"/>
            <a:ext cx="89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al value of damping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ыбор рационального значения коэффициента вязкого трения гас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7920" y="1125360"/>
            <a:ext cx="912816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9B4-FC90-4121-9AEE-AB72C849AE99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1" descr=""/>
          <p:cNvPicPr/>
          <p:nvPr/>
        </p:nvPicPr>
        <p:blipFill>
          <a:blip r:embed="rId1"/>
          <a:stretch/>
        </p:blipFill>
        <p:spPr>
          <a:xfrm>
            <a:off x="328680" y="1197000"/>
            <a:ext cx="8486640" cy="27306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0"/>
          <p:cNvSpPr/>
          <p:nvPr/>
        </p:nvSpPr>
        <p:spPr>
          <a:xfrm>
            <a:off x="395280" y="185760"/>
            <a:ext cx="89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al value of damping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ыбор рационального значения коэффициента вязкого трения гас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162000" y="4076640"/>
            <a:ext cx="43387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Wear factor in curves for different speed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 damping coeffic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мощности сил трения по гребню колеса W</a:t>
            </a:r>
            <a:r>
              <a:rPr b="1" lang="ru-RU" sz="1400" spc="-1" strike="noStrike" baseline="-25000">
                <a:solidFill>
                  <a:srgbClr val="7f7f7f"/>
                </a:solidFill>
                <a:latin typeface="Times New Roman"/>
                <a:ea typeface="Calibri"/>
              </a:rPr>
              <a:t>т</a:t>
            </a:r>
            <a:r>
              <a:rPr b="1" lang="ru-RU" sz="1400" spc="-1" strike="noStrike" baseline="30000">
                <a:solidFill>
                  <a:srgbClr val="7f7f7f"/>
                </a:solidFill>
                <a:latin typeface="Times New Roman"/>
                <a:ea typeface="Calibri"/>
              </a:rPr>
              <a:t>г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в кривых от скорости движ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v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и коэффициента вязкого тр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4716360" y="4059360"/>
            <a:ext cx="43372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afety factor   for different speed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and damping coeffic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коэффициента устойчивости колеса против схода с рельсов λ в кривых от скорости движ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v</a:t>
            </a: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 и коэффициента вязкого трения </a:t>
            </a:r>
            <a:r>
              <a:rPr b="1" lang="en-US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3E4F-8250-4FE8-BAF4-751DB317AFCE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Прямоугольник 2"/>
          <p:cNvSpPr/>
          <p:nvPr/>
        </p:nvSpPr>
        <p:spPr>
          <a:xfrm>
            <a:off x="179280" y="1125360"/>
            <a:ext cx="878544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alysis of the simulation results showed that the damping coefficient should be about </a:t>
            </a:r>
            <a:r>
              <a:rPr b="1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0-25 kN·s/m</a:t>
            </a:r>
            <a:r>
              <a:rPr b="0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articularly, increasing the damping coefficient from </a:t>
            </a:r>
            <a:r>
              <a:rPr b="1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10 to 25 kN·s/m </a:t>
            </a:r>
            <a:r>
              <a:rPr b="0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decreases accelerations at 28% and frame forces at 20%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Increasing the damping coefficient from </a:t>
            </a:r>
            <a:r>
              <a:rPr b="1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5 to 60 kN·s/m</a:t>
            </a:r>
            <a:r>
              <a:rPr b="0" lang="en-US" sz="1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increases accelerations at 39% and frame forces at 20%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Анализ приведенных графиков показывает, что динамические параметры вагона улучшаются при значениях коэффициента вязкого трения гасителей колебаний в пределах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20 - 25 кН•с/м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 В частности изменение коэффициента вязкого трения β с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0 до 25 кН•с/м 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 движении в кривых приводит  к снижени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оризонтальных ускорений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a</a:t>
            </a:r>
            <a:r>
              <a:rPr b="1" lang="ru-RU" sz="1600" spc="-1" strike="noStrike" baseline="-25000">
                <a:solidFill>
                  <a:srgbClr val="953735"/>
                </a:solidFill>
                <a:latin typeface="Times New Roman"/>
                <a:ea typeface="Times New Roman"/>
              </a:rPr>
              <a:t>г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при скорости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00 км/ч  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 коэффициента вязкого трения гасителя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25 кН•с/м 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28%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амных сил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</a:t>
            </a:r>
            <a:r>
              <a:rPr b="1" lang="ru-RU" sz="1600" spc="-1" strike="noStrike" baseline="-25000">
                <a:solidFill>
                  <a:srgbClr val="953735"/>
                </a:solidFill>
                <a:latin typeface="Times New Roman"/>
                <a:ea typeface="Times New Roman"/>
              </a:rPr>
              <a:t>р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при скорости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80 км/ч 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и коэффициента вязкого трения гасителя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25 кН•с/м 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 </a:t>
            </a:r>
            <a:r>
              <a:rPr b="1" lang="en-US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20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%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При изменении коэффициента вязкого трения β с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25 до 60 кН•с/м 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блюдается устойчивое ухудшение параметров ходовой динамики для всего диапазона скоростей, в частности увеличени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горизонтальных ускорений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a</a:t>
            </a:r>
            <a:r>
              <a:rPr b="1" lang="ru-RU" sz="1600" spc="-1" strike="noStrike" baseline="-25000">
                <a:solidFill>
                  <a:srgbClr val="953735"/>
                </a:solidFill>
                <a:latin typeface="Times New Roman"/>
                <a:ea typeface="Times New Roman"/>
              </a:rPr>
              <a:t>г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при скорости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00 км/ч  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3</a:t>
            </a:r>
            <a:r>
              <a:rPr b="1" lang="en-US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9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%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рамных сил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</a:t>
            </a:r>
            <a:r>
              <a:rPr b="1" lang="ru-RU" sz="1600" spc="-1" strike="noStrike" baseline="-25000">
                <a:solidFill>
                  <a:srgbClr val="953735"/>
                </a:solidFill>
                <a:latin typeface="Times New Roman"/>
                <a:ea typeface="Times New Roman"/>
              </a:rPr>
              <a:t>р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при скорости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80 км/ч </a:t>
            </a:r>
            <a:r>
              <a:rPr b="0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а 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9</a:t>
            </a:r>
            <a:r>
              <a:rPr b="1" lang="ru-RU" sz="1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395280" y="185760"/>
            <a:ext cx="890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nal value of damping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ыбор рационального значения коэффициента вязкого трения гас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33D5-44CF-45C0-AD5F-CF0311E3B4E1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468360" y="249120"/>
            <a:ext cx="8569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analysis /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Оценка влияния предложенных ре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4920" y="758880"/>
          <a:ext cx="9074160" cy="5707080"/>
        </p:xfrm>
        <a:graphic>
          <a:graphicData uri="http://schemas.openxmlformats.org/drawingml/2006/table">
            <a:tbl>
              <a:tblPr/>
              <a:tblGrid>
                <a:gridCol w="360360"/>
                <a:gridCol w="4681440"/>
                <a:gridCol w="790560"/>
                <a:gridCol w="1225800"/>
                <a:gridCol w="1008000"/>
                <a:gridCol w="1008000"/>
              </a:tblGrid>
              <a:tr h="609480"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formance / </a:t>
                      </a: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ffers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ферные устрой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pers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сители колеб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ffec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менение  параметров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row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 acceleration of a car body (m/s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Вертикальные ускорения кузова а</a:t>
                      </a:r>
                      <a:r>
                        <a:rPr b="0" lang="ru-RU" sz="1200" spc="-1" strike="noStrike" baseline="-25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, м/с</a:t>
                      </a:r>
                      <a:r>
                        <a:rPr b="0" lang="ru-RU" sz="1200" spc="-1" strike="noStrike" baseline="30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g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ря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row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 accelerations of a car body (m/s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Горизонтальные ускорения кузова а</a:t>
                      </a:r>
                      <a:r>
                        <a:rPr b="0" lang="ru-RU" sz="1200" spc="-1" strike="noStrike" baseline="-25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, м/с</a:t>
                      </a:r>
                      <a:r>
                        <a:rPr b="0" lang="ru-RU" sz="1200" spc="-1" strike="noStrike" baseline="30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g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ря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3760">
                <a:tc row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tical ride comfort index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оказатель плавности хода в вертикальной плоскости </a:t>
                      </a: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ru-RU" sz="1200" spc="-1" strike="noStrike" baseline="-25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g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ря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row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izontal ride comfort index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оказатель плавности хода в горизонтальной плоскости </a:t>
                      </a: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r>
                        <a:rPr b="0" lang="ru-RU" sz="1200" spc="-1" strike="noStrike" baseline="-25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g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ря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 row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me force (kN)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Рамные силы Н</a:t>
                      </a:r>
                      <a:r>
                        <a:rPr b="0" lang="ru-RU" sz="1200" spc="-1" strike="noStrike" baseline="-25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, к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g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ря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8440">
                <a:tc row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 wheel-to-rail forces (kN)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Силы отжатия рельса </a:t>
                      </a: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US" sz="1200" spc="-1" strike="noStrike" baseline="-25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, к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g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ря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 row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el thread wear facto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Мощность сил трения по кругу катания колеса W</a:t>
                      </a:r>
                      <a:r>
                        <a:rPr b="0" lang="ru-RU" sz="1200" spc="-1" strike="noStrike" baseline="-25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ru-RU" sz="1200" spc="-1" strike="noStrike" baseline="30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, (Н·м)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g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ря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2320">
                <a:tc rowSpan="2"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heel flange wear facto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Мощность сил трения по гребню колеса W</a:t>
                      </a:r>
                      <a:r>
                        <a:rPr b="0" lang="ru-RU" sz="1200" spc="-1" strike="noStrike" baseline="-25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r>
                        <a:rPr b="0" lang="ru-RU" sz="1200" spc="-1" strike="noStrike" baseline="30000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, (Н·м)/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ng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прям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06440"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ty facto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n standard - the bigger the better!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оэффициент устойчивости колеса против схода с рельса </a:t>
                      </a:r>
                      <a:r>
                        <a:rPr b="0" lang="en-US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ves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Times New Roman"/>
                        </a:rPr>
                        <a:t>крив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37080" rIns="3708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+2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5"/>
          <p:cNvSpPr/>
          <p:nvPr/>
        </p:nvSpPr>
        <p:spPr>
          <a:xfrm>
            <a:off x="309600" y="3213000"/>
            <a:ext cx="8524800" cy="1861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ubstantiation of technical solutions of inter-car transitions based on multibody mode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  <a:ea typeface="Times New Roman"/>
              </a:rPr>
              <a:t>Обоснование технических решений межвагонных переходов на основе твердотельного математического моделиро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888840" y="2349360"/>
            <a:ext cx="7342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dimir Kobischanov, Dmitry Antipin, Evgeny Chechulin</a:t>
            </a:r>
            <a:br>
              <a:rPr sz="2200"/>
            </a:b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.В. Кобищанов  Д.Я. Антипин  Е.С. Чечу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149400" y="530064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V International Scientific and Technical Workshop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“Computer simulation in railway transport: dynamics, strength, wear”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-4 April 2018, Bryansk, Rus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0" y="1125360"/>
            <a:ext cx="914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Railway Rolling Stocks</a:t>
            </a:r>
            <a:br>
              <a:rPr sz="1600"/>
            </a:br>
            <a:r>
              <a:rPr b="1" i="1" lang="ru-RU" sz="1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афедра «Подвижной состав железных дорог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9360" y="3445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yansk State Technical University</a:t>
            </a:r>
            <a:br>
              <a:rPr sz="2000"/>
            </a:b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Брянский государственный технический университ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1"/>
          <p:cNvSpPr/>
          <p:nvPr/>
        </p:nvSpPr>
        <p:spPr>
          <a:xfrm>
            <a:off x="-14400" y="-1440"/>
            <a:ext cx="193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A75B-E542-4837-B090-9D4D43D8A22A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1"/>
          <a:stretch/>
        </p:blipFill>
        <p:spPr>
          <a:xfrm>
            <a:off x="287280" y="1773360"/>
            <a:ext cx="4284720" cy="1901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4716360" y="1658880"/>
          <a:ext cx="4356360" cy="4927680"/>
        </p:xfrm>
        <a:graphic>
          <a:graphicData uri="http://schemas.openxmlformats.org/drawingml/2006/table">
            <a:tbl>
              <a:tblPr/>
              <a:tblGrid>
                <a:gridCol w="455760"/>
                <a:gridCol w="1776240"/>
                <a:gridCol w="2124360"/>
              </a:tblGrid>
              <a:tr h="355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ss</a:t>
                      </a:r>
                      <a:br>
                        <a:rPr sz="14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Масса та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,8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n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entral plate length</a:t>
                      </a:r>
                      <a:br>
                        <a:rPr sz="14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База ваг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gie base</a:t>
                      </a:r>
                      <a:br>
                        <a:rPr sz="14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База тележ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0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250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Тип теле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Безлюлечная тележ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134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Модель 6840-95</a:t>
                      </a: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auge</a:t>
                      </a:r>
                      <a:br>
                        <a:rPr sz="14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Ширина коле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2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m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Габарит по ГОСТ 92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для кузова – I-ВМ 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для тележек безлюлечной конструкции – I 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Габарит по ГОСТ 105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для тележек двухосных – 02 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esigned speed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Конструкционная скор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m/h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м/ч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leeping places</a:t>
                      </a:r>
                      <a:br>
                        <a:rPr sz="14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Количество спальных мест для пассажи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\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ide comfor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Показатель плавности х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 more then 2.8 o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ts val="1349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для тележек безлюлечной конструкции - плавность хода, не более 2,8 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для тележек двухосных – плавность хода не более 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Прямоугольник 7"/>
          <p:cNvSpPr/>
          <p:nvPr/>
        </p:nvSpPr>
        <p:spPr>
          <a:xfrm>
            <a:off x="4930920" y="333360"/>
            <a:ext cx="42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characteristic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ехнические характеристики купейного пассажирского вагона  модели 61-446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08000" y="260280"/>
            <a:ext cx="4895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bject to analyze: Passenger car</a:t>
            </a:r>
            <a:br>
              <a:rPr sz="2400"/>
            </a:br>
            <a:r>
              <a:rPr b="1" lang="ru-RU" sz="1800" spc="-1" strike="noStrike">
                <a:solidFill>
                  <a:srgbClr val="7f7f7f"/>
                </a:solidFill>
                <a:latin typeface="Times New Roman"/>
                <a:ea typeface="Calibri"/>
              </a:rPr>
              <a:t>Объект исследования</a:t>
            </a:r>
            <a:r>
              <a:rPr b="1" lang="en-US" sz="1800" spc="-1" strike="noStrike">
                <a:solidFill>
                  <a:srgbClr val="7f7f7f"/>
                </a:solidFill>
                <a:latin typeface="Times New Roman"/>
                <a:ea typeface="Calibri"/>
              </a:rPr>
              <a:t>:</a:t>
            </a:r>
            <a:br>
              <a:rPr sz="1800"/>
            </a:b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Купейный вагон модели 61-4462 для поезд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постоянного форм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2" descr=""/>
          <p:cNvPicPr/>
          <p:nvPr/>
        </p:nvPicPr>
        <p:blipFill>
          <a:blip r:embed="rId2"/>
          <a:stretch/>
        </p:blipFill>
        <p:spPr>
          <a:xfrm>
            <a:off x="922320" y="3716280"/>
            <a:ext cx="33559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1"/>
          <p:cNvSpPr/>
          <p:nvPr/>
        </p:nvSpPr>
        <p:spPr>
          <a:xfrm>
            <a:off x="-14400" y="-1440"/>
            <a:ext cx="26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787-17D0-4ADB-A7DA-32F633979BBD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оле 4"/>
          <p:cNvSpPr/>
          <p:nvPr/>
        </p:nvSpPr>
        <p:spPr>
          <a:xfrm>
            <a:off x="3564000" y="3429000"/>
            <a:ext cx="5497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cal railway track stiffness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упруго-диссипативный элемент, моделирующий свойства рельсового полотна в вертикальной плоск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ateral railway track stiffness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упруго-диссипативный элемент, моделирующий упругие свойства рельсового полотна в горизонтальной плоск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ide bears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силовой контактный элемент, моделирующий опирание кузова вагона на скользу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central plate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линейный силовой элемент, моделирующий ограничения горизонтальных перемещений кузова относительно надрессорного бруса в пятниковом узл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raft gear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сцепное устрой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buffer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буферное устрой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7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inter-car crossing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межвагонный перехо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8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bogie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тележ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324000" y="163440"/>
            <a:ext cx="871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ynamic model of the car</a:t>
            </a:r>
            <a:br>
              <a:rPr sz="2400"/>
            </a:b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Calibri"/>
              </a:rPr>
              <a:t>Компьютерная динамическая модель ваг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rcRect l="75455" t="4099" r="0" b="43231"/>
          <a:stretch/>
        </p:blipFill>
        <p:spPr>
          <a:xfrm>
            <a:off x="450720" y="3522600"/>
            <a:ext cx="2805120" cy="3362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2"/>
          <a:stretch/>
        </p:blipFill>
        <p:spPr>
          <a:xfrm>
            <a:off x="1332000" y="907920"/>
            <a:ext cx="6264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1"/>
          <p:cNvSpPr/>
          <p:nvPr/>
        </p:nvSpPr>
        <p:spPr>
          <a:xfrm>
            <a:off x="-25560" y="-12600"/>
            <a:ext cx="2764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C39-19E3-464E-A93B-E43701A7958F}" type="slidenum"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1563" t="0" r="7864" b="4001"/>
          <a:stretch/>
        </p:blipFill>
        <p:spPr>
          <a:xfrm>
            <a:off x="1692360" y="692280"/>
            <a:ext cx="5522760" cy="398448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333360" y="165240"/>
            <a:ext cx="88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ogie model /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Calibri"/>
              </a:rPr>
              <a:t>Модель тележ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28"/>
          <p:cNvSpPr/>
          <p:nvPr/>
        </p:nvSpPr>
        <p:spPr>
          <a:xfrm>
            <a:off x="-20520" y="4653000"/>
            <a:ext cx="905652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rimary suspension force elements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силовые элементы первой ступени подвеши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econdary suspension force elements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силовые элементы второй ступени подвеши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cal damper in the primary suspension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гаситель вертикальных колебаний первой ступен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longitudinal damper 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гаситель горизонтальных колебаний первой ступени подвеши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5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od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продольный поводок первой ступени подвеши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bushing force elements for rod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резинометаллические блоки продольного поводка первой ступен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7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axle-box rod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абсолютно твердое тело, описывающее буксовый поводо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8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bushing force elements for axle-box rod 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резинометаллические блоки буксового повод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rotational joint for axle-box 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Calibri"/>
              </a:rPr>
              <a:t>вращательный шарнир, описывающий букс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1"/>
          <p:cNvSpPr/>
          <p:nvPr/>
        </p:nvSpPr>
        <p:spPr>
          <a:xfrm>
            <a:off x="-36360" y="-19080"/>
            <a:ext cx="287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59A6-4B58-4B20-9F89-F7CBD5B95332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23"/>
          <p:cNvSpPr/>
          <p:nvPr/>
        </p:nvSpPr>
        <p:spPr>
          <a:xfrm>
            <a:off x="-231840" y="2457360"/>
            <a:ext cx="9396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— голова сцепного устройства; 2 — хвостовик сцепного устройства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—  шаровый шарнир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— шарнирный узел; 5 — клин тягового хомута; 6 – упорная плита; 7 – упругие элементы поглощающего аппарата; 8 – корпус тягового хомута; 9 – упругое центрирующее устрой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8"/>
          <p:cNvSpPr/>
          <p:nvPr/>
        </p:nvSpPr>
        <p:spPr>
          <a:xfrm>
            <a:off x="525600" y="260280"/>
            <a:ext cx="80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raft gear model /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Calibri"/>
              </a:rPr>
              <a:t>Модель подсистемы «сцепное устрой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9" descr=""/>
          <p:cNvPicPr/>
          <p:nvPr/>
        </p:nvPicPr>
        <p:blipFill>
          <a:blip r:embed="rId1"/>
          <a:stretch/>
        </p:blipFill>
        <p:spPr>
          <a:xfrm>
            <a:off x="395280" y="4030560"/>
            <a:ext cx="4464000" cy="2809800"/>
          </a:xfrm>
          <a:prstGeom prst="rect">
            <a:avLst/>
          </a:prstGeom>
          <a:ln w="0">
            <a:noFill/>
          </a:ln>
        </p:spPr>
      </p:pic>
      <p:sp>
        <p:nvSpPr>
          <p:cNvPr id="154" name="Прямоугольник 2"/>
          <p:cNvSpPr/>
          <p:nvPr/>
        </p:nvSpPr>
        <p:spPr>
          <a:xfrm>
            <a:off x="34920" y="3213000"/>
            <a:ext cx="518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vs. speed diagram of energy absorbers / </a:t>
            </a:r>
            <a:br>
              <a:rPr sz="1800"/>
            </a:br>
            <a:r>
              <a:rPr b="1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C</a:t>
            </a:r>
            <a:r>
              <a:rPr b="1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иловые характеристики резинометаллического поглощающего аппар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5452920" y="3164040"/>
            <a:ext cx="374508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пус сцепного устройств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 в виде абсолютно твёрдого тела, шарнирно соединённого с шарнирным узлом. Шарнирный узел представлен в виде сферического шарнира, перемещение которого ограничено специальными контактными элемент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ое центрирующее устройств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делировано с помощью каскада упругих тел и контактных элемен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ощающий аппарат Р5-П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уется с помощью специального упругого нелинейного биполярного элемента с поточечным заданием экспериментальной силовой характерист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2"/>
          <a:stretch/>
        </p:blipFill>
        <p:spPr>
          <a:xfrm>
            <a:off x="468360" y="566640"/>
            <a:ext cx="82072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-14400" y="-1440"/>
            <a:ext cx="4510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3F0C-6728-4141-81DF-C9856A5FB731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24"/>
          <p:cNvSpPr/>
          <p:nvPr/>
        </p:nvSpPr>
        <p:spPr>
          <a:xfrm>
            <a:off x="5800680" y="3789360"/>
            <a:ext cx="334332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e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аре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 –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ing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ружи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3 –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linder 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так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модели буферного устрой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26"/>
          <p:cNvSpPr/>
          <p:nvPr/>
        </p:nvSpPr>
        <p:spPr>
          <a:xfrm>
            <a:off x="28440" y="4005360"/>
            <a:ext cx="6156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 body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кузов ваго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gear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цепное устройст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age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суфле межвагонного перехо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ереходный мости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connection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шарнирное крепление мостика к кузов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ational joint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шарнир вращательны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force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упругий элемен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al joint / </a:t>
            </a:r>
            <a:r>
              <a:rPr b="0" lang="ru-RU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шарнир поступательный</a:t>
            </a:r>
            <a:r>
              <a:rPr b="0" lang="en-US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713560" y="1147680"/>
            <a:ext cx="3384360" cy="27622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6"/>
          <p:cNvSpPr/>
          <p:nvPr/>
        </p:nvSpPr>
        <p:spPr>
          <a:xfrm>
            <a:off x="85680" y="409680"/>
            <a:ext cx="4716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car crossing subsystem / </a:t>
            </a:r>
            <a:br>
              <a:rPr sz="2400"/>
            </a:b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одсистема «межвагонный переход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-57240" y="5918040"/>
            <a:ext cx="5708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вагонный перехо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ен совокупностью твёрдых тел, объединённых упругими и контактными элементами, описывающими работу гибкого резино-металлического суфле, переходной площадки, и шарнирно соединённых с кузовом ваго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5713560" y="4870440"/>
            <a:ext cx="332244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ферное устройств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уется системой абсолютно твёрдых тел, связанных упруго-диссипативными и контактными элемент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 тарелей буферных устройств смежных вагонов реализуется введением силовых контактных элементов типа «точка-плоскость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3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421160" cy="3063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6"/>
          <p:cNvSpPr/>
          <p:nvPr/>
        </p:nvSpPr>
        <p:spPr>
          <a:xfrm>
            <a:off x="4427640" y="409680"/>
            <a:ext cx="4716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s / </a:t>
            </a:r>
            <a:br>
              <a:rPr sz="2400"/>
            </a:b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Модель буферного устр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ED5D-8C35-4043-95B6-67B79AE68CE5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rcRect l="12925" t="3547" r="6576" b="0"/>
          <a:stretch/>
        </p:blipFill>
        <p:spPr>
          <a:xfrm>
            <a:off x="34920" y="549360"/>
            <a:ext cx="4975200" cy="3240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73" descr=""/>
          <p:cNvPicPr/>
          <p:nvPr/>
        </p:nvPicPr>
        <p:blipFill>
          <a:blip r:embed="rId2"/>
          <a:srcRect l="1215" t="0" r="1192" b="0"/>
          <a:stretch/>
        </p:blipFill>
        <p:spPr>
          <a:xfrm>
            <a:off x="108000" y="4149720"/>
            <a:ext cx="4789440" cy="21621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оугольник 29"/>
          <p:cNvSpPr/>
          <p:nvPr/>
        </p:nvSpPr>
        <p:spPr>
          <a:xfrm>
            <a:off x="826920" y="6381720"/>
            <a:ext cx="237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(2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Bogie / </a:t>
            </a:r>
            <a:r>
              <a:rPr b="1" lang="ru-RU" sz="1700" spc="-1" strike="noStrike">
                <a:solidFill>
                  <a:srgbClr val="7f7f7f"/>
                </a:solidFill>
                <a:latin typeface="Times New Roman"/>
                <a:ea typeface="Calibri"/>
              </a:rPr>
              <a:t>Тележ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3"/>
          <a:stretch/>
        </p:blipFill>
        <p:spPr>
          <a:xfrm>
            <a:off x="4859280" y="4508640"/>
            <a:ext cx="4202280" cy="1795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4"/>
          <a:stretch/>
        </p:blipFill>
        <p:spPr>
          <a:xfrm>
            <a:off x="5076720" y="765000"/>
            <a:ext cx="1944720" cy="3478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5"/>
          <a:srcRect l="37296" t="18735" r="13988" b="23438"/>
          <a:stretch/>
        </p:blipFill>
        <p:spPr>
          <a:xfrm>
            <a:off x="7093080" y="981000"/>
            <a:ext cx="1944720" cy="137160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оугольник 29"/>
          <p:cNvSpPr/>
          <p:nvPr/>
        </p:nvSpPr>
        <p:spPr>
          <a:xfrm>
            <a:off x="4716360" y="6308640"/>
            <a:ext cx="4176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(3) Draft gear / </a:t>
            </a:r>
            <a:r>
              <a:rPr b="1" lang="ru-RU" sz="1700" spc="-1" strike="noStrike">
                <a:solidFill>
                  <a:srgbClr val="7f7f7f"/>
                </a:solidFill>
                <a:latin typeface="Times New Roman"/>
                <a:ea typeface="Calibri"/>
              </a:rPr>
              <a:t>Сцепное устройство БСУ-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оугольник 29"/>
          <p:cNvSpPr/>
          <p:nvPr/>
        </p:nvSpPr>
        <p:spPr>
          <a:xfrm>
            <a:off x="7236000" y="2276640"/>
            <a:ext cx="17287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(5) Buffer / </a:t>
            </a:r>
            <a:r>
              <a:rPr b="1" lang="ru-RU" sz="1700" spc="-1" strike="noStrike">
                <a:solidFill>
                  <a:srgbClr val="7f7f7f"/>
                </a:solidFill>
                <a:latin typeface="Times New Roman"/>
                <a:ea typeface="Calibri"/>
              </a:rPr>
              <a:t>Буферное устройство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5003640" y="4149720"/>
            <a:ext cx="2305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(4) Inter-car crossing / </a:t>
            </a:r>
            <a:r>
              <a:rPr b="1" lang="ru-RU" sz="1700" spc="-1" strike="noStrike">
                <a:solidFill>
                  <a:srgbClr val="7f7f7f"/>
                </a:solidFill>
                <a:latin typeface="Times New Roman"/>
                <a:ea typeface="Calibri"/>
              </a:rPr>
              <a:t>Межвагонный переход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Прямоугольник 26"/>
          <p:cNvSpPr/>
          <p:nvPr/>
        </p:nvSpPr>
        <p:spPr>
          <a:xfrm>
            <a:off x="360360" y="246240"/>
            <a:ext cx="867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body model / </a:t>
            </a:r>
            <a:r>
              <a:rPr b="1" lang="ru-RU" sz="2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Динамическая модель ваго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DC01-C8DF-4D63-8CB5-642652311269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7"/>
          <p:cNvSpPr/>
          <p:nvPr/>
        </p:nvSpPr>
        <p:spPr>
          <a:xfrm>
            <a:off x="649440" y="3636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odel verification /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Calibri"/>
              </a:rPr>
              <a:t>Верификация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2"/>
          <p:cNvSpPr/>
          <p:nvPr/>
        </p:nvSpPr>
        <p:spPr>
          <a:xfrm>
            <a:off x="112680" y="4437000"/>
            <a:ext cx="445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ateral accelerations of a car body vs. 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горизонтальных ускорений кузова от скорости движения вагона в кривы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4572000" y="4508640"/>
            <a:ext cx="468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Ride comfort index vs. speed in curves</a:t>
            </a:r>
            <a:br>
              <a:rPr sz="1400"/>
            </a:b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коэффициента вертикальной динамики кузова от скорости движения вагона в кривы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Диаграмма 8" descr=""/>
          <p:cNvPicPr/>
          <p:nvPr/>
        </p:nvPicPr>
        <p:blipFill>
          <a:blip r:embed="rId1"/>
          <a:stretch/>
        </p:blipFill>
        <p:spPr>
          <a:xfrm>
            <a:off x="249120" y="981000"/>
            <a:ext cx="4213440" cy="3382920"/>
          </a:xfrm>
          <a:prstGeom prst="rect">
            <a:avLst/>
          </a:prstGeom>
          <a:ln w="0">
            <a:noFill/>
          </a:ln>
        </p:spPr>
      </p:pic>
      <p:pic>
        <p:nvPicPr>
          <p:cNvPr id="182" name="Диаграмма 10" descr=""/>
          <p:cNvPicPr/>
          <p:nvPr/>
        </p:nvPicPr>
        <p:blipFill>
          <a:blip r:embed="rId2"/>
          <a:stretch/>
        </p:blipFill>
        <p:spPr>
          <a:xfrm>
            <a:off x="4638600" y="1122480"/>
            <a:ext cx="4340160" cy="31683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2"/>
          <p:cNvSpPr/>
          <p:nvPr/>
        </p:nvSpPr>
        <p:spPr>
          <a:xfrm>
            <a:off x="12600" y="6378480"/>
            <a:ext cx="89758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Times New Roman"/>
                <a:ea typeface="Calibri"/>
              </a:rPr>
              <a:t>          </a:t>
            </a:r>
            <a:r>
              <a:rPr b="0" lang="ru-RU" sz="1400" spc="-1" strike="noStrike">
                <a:solidFill>
                  <a:srgbClr val="800000"/>
                </a:solidFill>
                <a:latin typeface="Times New Roman"/>
                <a:ea typeface="Calibri"/>
              </a:rPr>
              <a:t>Максимальное расхождение экспериментальных и расчётных данных не превышае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  <a:ea typeface="Calibri"/>
              </a:rPr>
              <a:t>29%</a:t>
            </a:r>
            <a:r>
              <a:rPr b="0" lang="ru-RU" sz="1400" spc="-1" strike="noStrike">
                <a:solidFill>
                  <a:srgbClr val="800000"/>
                </a:solidFill>
                <a:latin typeface="Times New Roman"/>
                <a:ea typeface="Calibri"/>
              </a:rPr>
              <a:t> для твердотельной модел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1"/>
          <p:cNvSpPr/>
          <p:nvPr/>
        </p:nvSpPr>
        <p:spPr>
          <a:xfrm>
            <a:off x="-14400" y="-144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84C7-591C-4CE3-8364-14918A266F92}" type="slidenum"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649440" y="3636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odel verification / </a:t>
            </a:r>
            <a:r>
              <a:rPr b="1" lang="ru-RU" sz="2400" spc="-1" strike="noStrike">
                <a:solidFill>
                  <a:srgbClr val="7f7f7f"/>
                </a:solidFill>
                <a:latin typeface="Times New Roman"/>
                <a:ea typeface="Calibri"/>
              </a:rPr>
              <a:t>Верификация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Диаграмма 11" descr=""/>
          <p:cNvPicPr/>
          <p:nvPr/>
        </p:nvPicPr>
        <p:blipFill>
          <a:blip r:embed="rId1"/>
          <a:stretch/>
        </p:blipFill>
        <p:spPr>
          <a:xfrm>
            <a:off x="19080" y="549360"/>
            <a:ext cx="4419720" cy="4029120"/>
          </a:xfrm>
          <a:prstGeom prst="rect">
            <a:avLst/>
          </a:prstGeom>
          <a:ln w="0">
            <a:noFill/>
          </a:ln>
        </p:spPr>
      </p:pic>
      <p:pic>
        <p:nvPicPr>
          <p:cNvPr id="187" name="Диаграмма 12" descr=""/>
          <p:cNvPicPr/>
          <p:nvPr/>
        </p:nvPicPr>
        <p:blipFill>
          <a:blip r:embed="rId2"/>
          <a:stretch/>
        </p:blipFill>
        <p:spPr>
          <a:xfrm>
            <a:off x="4651200" y="549360"/>
            <a:ext cx="4400640" cy="39862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5"/>
          <p:cNvSpPr/>
          <p:nvPr/>
        </p:nvSpPr>
        <p:spPr>
          <a:xfrm>
            <a:off x="0" y="456264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Frame forces vs. speed </a:t>
            </a:r>
            <a:br>
              <a:rPr sz="1400"/>
            </a:br>
            <a:r>
              <a:rPr b="1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Зависимость боковой силы, действующей на раму тележки нетормозного конца вагона, от скорости дв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5"/>
          <p:cNvSpPr/>
          <p:nvPr/>
        </p:nvSpPr>
        <p:spPr>
          <a:xfrm>
            <a:off x="611280" y="4508640"/>
            <a:ext cx="34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a) tangent track 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прямой участок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5"/>
          <p:cNvSpPr/>
          <p:nvPr/>
        </p:nvSpPr>
        <p:spPr>
          <a:xfrm>
            <a:off x="5435640" y="4508640"/>
            <a:ext cx="33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b) curves / </a:t>
            </a:r>
            <a:r>
              <a:rPr b="0" lang="ru-RU" sz="1400" spc="-1" strike="noStrike">
                <a:solidFill>
                  <a:srgbClr val="7f7f7f"/>
                </a:solidFill>
                <a:latin typeface="Times New Roman"/>
                <a:ea typeface="Calibri"/>
              </a:rPr>
              <a:t>криволинейные участ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2"/>
          <p:cNvSpPr/>
          <p:nvPr/>
        </p:nvSpPr>
        <p:spPr>
          <a:xfrm>
            <a:off x="84240" y="5253120"/>
            <a:ext cx="8975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Calibri"/>
              </a:rPr>
              <a:t>Maximal relative error in between experimental and simulation results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Calibri"/>
              </a:rPr>
              <a:t>does not exceed 2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  <a:ea typeface="Calibri"/>
              </a:rPr>
              <a:t>Максимальное расхождение экспериментальных и расчётных данных не превышает 29% для твердотельной мод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04:33Z</dcterms:created>
  <dc:creator>Дмитрий</dc:creator>
  <dc:description/>
  <dc:language>en-US</dc:language>
  <cp:lastModifiedBy>Пользователь Windows</cp:lastModifiedBy>
  <cp:lastPrinted>2017-05-28T07:34:30Z</cp:lastPrinted>
  <dcterms:modified xsi:type="dcterms:W3CDTF">2018-04-04T10:18:51Z</dcterms:modified>
  <cp:revision>592</cp:revision>
  <dc:subject/>
  <dc:title>Презентация PowerPoint</dc:title>
</cp:coreProperties>
</file>