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171-F012-4B88-8319-D1A98C83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A681-FAF3-4B2D-940C-D6CAD493A8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77F3-6F6F-4B8D-9319-5DCAA851AA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D187-C2FE-4B91-A271-44E921B428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5599-B1D2-4A4B-8ACC-A39F588DFD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3904-6653-4018-A6B1-A58B01CAEF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DD69-123F-41C0-B060-D8C7596421C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5BF3-C477-48A1-815F-C6390B774B4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4EA-0F20-4478-8C52-BF6ACBAEBE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5CA-08C2-4A55-8D48-5055049904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F4FE-144D-4DE0-AB58-B2898A2AD5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A480-369D-475C-9396-00F43027D8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B2D8-F790-4A35-A5D6-2A1CD999AA6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관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5C2B-16FB-4851-8BC6-86B430ED9D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DDF-6991-4B36-BC35-F4B5BFD0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73A-D4DB-48A9-9FCA-2E2AF09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52D-E883-4302-919E-22D4CD3E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657-24E5-4F51-81B4-4654C715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8057-D563-4B4A-98D5-75020CF6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CE1D-71B4-436F-936E-F4A4637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A457-333B-4F74-A6C8-A6BDC724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A046-A22B-4D0E-92AF-6C2AC6E3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FAE-4805-4D10-AE6D-602FC14C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B90E-83BF-4A40-A600-D166EFD3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AEE0-A34B-430D-B235-A87C3414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095-FA3A-4A38-AC95-08CA1681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2C5B-AD0F-48C7-AA48-28BD7F6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126-6C75-4062-A88B-A51B8E2B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853D-6BD2-4BD7-A656-6925C233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6757-768D-491F-BAD0-CE9FD351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84C6-D7CB-4C48-8CEA-24939A19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3686-FCB1-409B-A843-F7414396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61169-1BF0-4542-A9CD-3C70526F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9166-AEBA-467A-B82F-E3C5FFE7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5471-AB41-4819-B0EF-AD522189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1EAB-E4F6-4DB8-B443-4E3CB058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A19-C547-4796-B884-239379E5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777C-E464-443B-B1D7-86E35B85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7E43-36A5-4F63-8E8C-030C324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54F8-C9C3-4E88-BA07-0BAF289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D468-A7C3-49D7-BFAC-8D5514DB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E204-36FC-4335-B6E3-0E45DE8C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A6C0-7B70-4A8C-9526-25B43BD2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E58D-80BF-46E3-8E46-BFF7830F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2C8-10E2-4F5D-B815-33A1E4A9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247-9C31-438F-9748-CAE67B1B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AB4-17D2-4106-89E3-A30FF58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F9A-F772-42EA-AD7D-C233AF6A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E60-DAEE-445D-BCA8-F616BF6E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6C8-0B48-43B4-A500-7DA8DF4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노후차량의 타고오름탈선에 관한 연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516B-F2F3-49BC-B76D-7B244466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rcRect l="926" t="28376" r="1909" b="43333"/>
          <a:stretch/>
        </p:blipFill>
        <p:spPr>
          <a:xfrm>
            <a:off x="457200" y="762120"/>
            <a:ext cx="8153280" cy="114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rcRect l="926" t="28376" r="1909" b="43333"/>
          <a:stretch/>
        </p:blipFill>
        <p:spPr>
          <a:xfrm>
            <a:off x="457200" y="6248520"/>
            <a:ext cx="8153280" cy="7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rcRect l="926" t="28376" r="1909" b="43333"/>
          <a:stretch/>
        </p:blipFill>
        <p:spPr>
          <a:xfrm>
            <a:off x="457200" y="762120"/>
            <a:ext cx="8153280" cy="11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rcRect l="926" t="28376" r="1909" b="43333"/>
          <a:stretch/>
        </p:blipFill>
        <p:spPr>
          <a:xfrm>
            <a:off x="457200" y="6248520"/>
            <a:ext cx="8153280" cy="7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로고"/>
          <p:cNvPicPr/>
          <p:nvPr/>
        </p:nvPicPr>
        <p:blipFill>
          <a:blip r:embed="rId4"/>
          <a:stretch/>
        </p:blipFill>
        <p:spPr>
          <a:xfrm>
            <a:off x="8263080" y="13320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46" name="_x219526432" descr="EMB00000c2c0a53"/>
          <p:cNvPicPr/>
          <p:nvPr/>
        </p:nvPicPr>
        <p:blipFill>
          <a:blip r:embed="rId5"/>
          <a:stretch/>
        </p:blipFill>
        <p:spPr>
          <a:xfrm>
            <a:off x="357120" y="133200"/>
            <a:ext cx="1874880" cy="565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014480" y="119160"/>
            <a:ext cx="601344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Ministry of Land, Infrastructure and Transpo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Republic of Ko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71880" y="6324480"/>
            <a:ext cx="347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노후차량의 타고오름탈선에 관한 연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675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8DCB-69A5-44E8-B5E1-0D33D9F68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2"/>
          <a:srcRect l="926" t="28376" r="1909" b="43333"/>
          <a:stretch/>
        </p:blipFill>
        <p:spPr>
          <a:xfrm>
            <a:off x="457200" y="762120"/>
            <a:ext cx="8153280" cy="11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rcRect l="926" t="28376" r="1909" b="43333"/>
          <a:stretch/>
        </p:blipFill>
        <p:spPr>
          <a:xfrm>
            <a:off x="457200" y="6248520"/>
            <a:ext cx="8153280" cy="75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481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노후차량의 타고오름탈선에 관한 연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436-61AA-4E89-9249-997BF83B2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133640"/>
            <a:ext cx="83469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A STUDY ON THE RELATIONSHIP BETWEEN DERAILMENT AND RADIUS OF TRACK WHERE SWITCHES ARE INSTALL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11040" y="3968280"/>
            <a:ext cx="706428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Aviation and Railwa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Accident Investigation Boar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Dr. Kwanje Wo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601080" y="549108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4 April, 201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Entry Condition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EFE3-FE97-47C7-8575-D82A2F2E63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" name="그림 4" descr="EMB00000864476d"/>
          <p:cNvPicPr/>
          <p:nvPr/>
        </p:nvPicPr>
        <p:blipFill>
          <a:blip r:embed="rId1"/>
          <a:stretch/>
        </p:blipFill>
        <p:spPr>
          <a:xfrm>
            <a:off x="609480" y="1908000"/>
            <a:ext cx="79772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ED17-37C2-431E-BBC9-25715FBD4E4E}" type="slidenum">
              <a:rPr b="0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5" descr=""/>
          <p:cNvPicPr/>
          <p:nvPr/>
        </p:nvPicPr>
        <p:blipFill>
          <a:blip r:embed="rId1"/>
          <a:stretch/>
        </p:blipFill>
        <p:spPr>
          <a:xfrm>
            <a:off x="442800" y="1397160"/>
            <a:ext cx="1967040" cy="11872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6" descr=""/>
          <p:cNvPicPr/>
          <p:nvPr/>
        </p:nvPicPr>
        <p:blipFill>
          <a:blip r:embed="rId2"/>
          <a:stretch/>
        </p:blipFill>
        <p:spPr>
          <a:xfrm>
            <a:off x="2459160" y="1390680"/>
            <a:ext cx="2038320" cy="122220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7" descr=""/>
          <p:cNvPicPr/>
          <p:nvPr/>
        </p:nvPicPr>
        <p:blipFill>
          <a:blip r:embed="rId3"/>
          <a:stretch/>
        </p:blipFill>
        <p:spPr>
          <a:xfrm>
            <a:off x="4506840" y="1371600"/>
            <a:ext cx="2060640" cy="1257480"/>
          </a:xfrm>
          <a:prstGeom prst="rect">
            <a:avLst/>
          </a:prstGeom>
          <a:ln w="0">
            <a:noFill/>
          </a:ln>
        </p:spPr>
      </p:pic>
      <p:pic>
        <p:nvPicPr>
          <p:cNvPr id="186" name="그림 8" descr=""/>
          <p:cNvPicPr/>
          <p:nvPr/>
        </p:nvPicPr>
        <p:blipFill>
          <a:blip r:embed="rId4"/>
          <a:stretch/>
        </p:blipFill>
        <p:spPr>
          <a:xfrm>
            <a:off x="6600960" y="1371600"/>
            <a:ext cx="2103480" cy="125748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4" descr=""/>
          <p:cNvPicPr/>
          <p:nvPr/>
        </p:nvPicPr>
        <p:blipFill>
          <a:blip r:embed="rId5"/>
          <a:stretch/>
        </p:blipFill>
        <p:spPr>
          <a:xfrm>
            <a:off x="2459160" y="3206880"/>
            <a:ext cx="2038320" cy="1204920"/>
          </a:xfrm>
          <a:prstGeom prst="rect">
            <a:avLst/>
          </a:prstGeom>
          <a:ln w="0">
            <a:noFill/>
          </a:ln>
        </p:spPr>
      </p:pic>
      <p:pic>
        <p:nvPicPr>
          <p:cNvPr id="188" name="그림 3" descr=""/>
          <p:cNvPicPr/>
          <p:nvPr/>
        </p:nvPicPr>
        <p:blipFill>
          <a:blip r:embed="rId6"/>
          <a:stretch/>
        </p:blipFill>
        <p:spPr>
          <a:xfrm>
            <a:off x="4506840" y="3203640"/>
            <a:ext cx="2094120" cy="1247760"/>
          </a:xfrm>
          <a:prstGeom prst="rect">
            <a:avLst/>
          </a:prstGeom>
          <a:ln w="0">
            <a:noFill/>
          </a:ln>
        </p:spPr>
      </p:pic>
      <p:pic>
        <p:nvPicPr>
          <p:cNvPr id="189" name="그림 5" descr=""/>
          <p:cNvPicPr/>
          <p:nvPr/>
        </p:nvPicPr>
        <p:blipFill>
          <a:blip r:embed="rId7"/>
          <a:stretch/>
        </p:blipFill>
        <p:spPr>
          <a:xfrm>
            <a:off x="6568920" y="3170160"/>
            <a:ext cx="2127240" cy="1274760"/>
          </a:xfrm>
          <a:prstGeom prst="rect">
            <a:avLst/>
          </a:prstGeom>
          <a:ln w="0">
            <a:noFill/>
          </a:ln>
        </p:spPr>
      </p:pic>
      <p:pic>
        <p:nvPicPr>
          <p:cNvPr id="190" name="그림 7" descr=""/>
          <p:cNvPicPr/>
          <p:nvPr/>
        </p:nvPicPr>
        <p:blipFill>
          <a:blip r:embed="rId8"/>
          <a:stretch/>
        </p:blipFill>
        <p:spPr>
          <a:xfrm>
            <a:off x="442800" y="3206880"/>
            <a:ext cx="1967040" cy="116028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3" descr=""/>
          <p:cNvPicPr/>
          <p:nvPr/>
        </p:nvPicPr>
        <p:blipFill>
          <a:blip r:embed="rId9"/>
          <a:stretch/>
        </p:blipFill>
        <p:spPr>
          <a:xfrm>
            <a:off x="2459160" y="5003640"/>
            <a:ext cx="2038320" cy="121284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4" descr=""/>
          <p:cNvPicPr/>
          <p:nvPr/>
        </p:nvPicPr>
        <p:blipFill>
          <a:blip r:embed="rId10"/>
          <a:stretch/>
        </p:blipFill>
        <p:spPr>
          <a:xfrm>
            <a:off x="4506840" y="4994280"/>
            <a:ext cx="2094120" cy="1246320"/>
          </a:xfrm>
          <a:prstGeom prst="rect">
            <a:avLst/>
          </a:prstGeom>
          <a:ln w="0">
            <a:noFill/>
          </a:ln>
        </p:spPr>
      </p:pic>
      <p:pic>
        <p:nvPicPr>
          <p:cNvPr id="193" name="그림 5" descr=""/>
          <p:cNvPicPr/>
          <p:nvPr/>
        </p:nvPicPr>
        <p:blipFill>
          <a:blip r:embed="rId11"/>
          <a:stretch/>
        </p:blipFill>
        <p:spPr>
          <a:xfrm>
            <a:off x="6568920" y="4995720"/>
            <a:ext cx="2127240" cy="1258920"/>
          </a:xfrm>
          <a:prstGeom prst="rect">
            <a:avLst/>
          </a:prstGeom>
          <a:ln w="0">
            <a:noFill/>
          </a:ln>
        </p:spPr>
      </p:pic>
      <p:pic>
        <p:nvPicPr>
          <p:cNvPr id="194" name="그림 7" descr=""/>
          <p:cNvPicPr/>
          <p:nvPr/>
        </p:nvPicPr>
        <p:blipFill>
          <a:blip r:embed="rId12"/>
          <a:stretch/>
        </p:blipFill>
        <p:spPr>
          <a:xfrm>
            <a:off x="449280" y="5003640"/>
            <a:ext cx="1962000" cy="11890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347760" y="880560"/>
            <a:ext cx="201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견고딕"/>
                <a:ea typeface="HY견고딕"/>
              </a:rPr>
              <a:t>Straight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347760" y="2696760"/>
            <a:ext cx="2336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견고딕"/>
                <a:ea typeface="HY견고딕"/>
              </a:rPr>
              <a:t>Transition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50920" y="4546080"/>
            <a:ext cx="160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견고딕"/>
                <a:ea typeface="HY견고딕"/>
              </a:rPr>
              <a:t>Curve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9480" y="151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Entry Condition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5914-F596-444A-A4F6-3C629AF364D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609480" y="934920"/>
            <a:ext cx="8302680" cy="367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Derailment coefficient increase when the switches are installed on curved trac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As the radius of the curve decreases the magnitude of derailment coefficient increas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The analysis method and results are used successfully to find the root causes of the derailment accidents on switch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490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Further…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41B0-8666-4276-B156-86613445752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23800" y="1177920"/>
            <a:ext cx="8020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Find key factors through sensitivity analysis (irregularity, stiffness, damping, speed …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2. Share results with operator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3. Apply to risky vehicles and track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1280" y="181080"/>
            <a:ext cx="841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Derailed Vehic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973D-45A0-4759-87D0-AE78FB82DA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그림 3" descr=""/>
          <p:cNvPicPr/>
          <p:nvPr/>
        </p:nvPicPr>
        <p:blipFill>
          <a:blip r:embed="rId1"/>
          <a:stretch/>
        </p:blipFill>
        <p:spPr>
          <a:xfrm>
            <a:off x="628560" y="1353960"/>
            <a:ext cx="7945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1280" y="181080"/>
            <a:ext cx="841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Track Geome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D1DA-99C8-4E1D-88D1-D04AE2BB43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그림 1" descr=""/>
          <p:cNvPicPr/>
          <p:nvPr/>
        </p:nvPicPr>
        <p:blipFill>
          <a:blip r:embed="rId1"/>
          <a:stretch/>
        </p:blipFill>
        <p:spPr>
          <a:xfrm>
            <a:off x="542880" y="1233360"/>
            <a:ext cx="812484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49040"/>
            <a:ext cx="822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Effect on Derailment Coefficien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F4C-037B-4F5B-A48B-F078DF412C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5"/>
          <p:cNvSpPr/>
          <p:nvPr/>
        </p:nvSpPr>
        <p:spPr>
          <a:xfrm flipH="1">
            <a:off x="896760" y="1893960"/>
            <a:ext cx="7445520" cy="20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Straight vs. Curved Track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Radius of Switch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Radius of Curved Track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그룹 7"/>
          <p:cNvGrpSpPr/>
          <p:nvPr/>
        </p:nvGrpSpPr>
        <p:grpSpPr>
          <a:xfrm>
            <a:off x="998640" y="1555920"/>
            <a:ext cx="7572240" cy="3787560"/>
            <a:chOff x="998640" y="1555920"/>
            <a:chExt cx="7572240" cy="3787560"/>
          </a:xfrm>
        </p:grpSpPr>
        <p:sp>
          <p:nvSpPr>
            <p:cNvPr id="152" name="직선 연결선 3"/>
            <p:cNvSpPr/>
            <p:nvPr/>
          </p:nvSpPr>
          <p:spPr>
            <a:xfrm>
              <a:off x="1076400" y="1555920"/>
              <a:ext cx="34797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원호 14"/>
            <p:cNvSpPr/>
            <p:nvPr/>
          </p:nvSpPr>
          <p:spPr>
            <a:xfrm>
              <a:off x="1528560" y="1555920"/>
              <a:ext cx="5946840" cy="3787560"/>
            </a:xfrm>
            <a:custGeom>
              <a:avLst/>
              <a:gdLst/>
              <a:ahLst/>
              <a:rect l="l" t="t" r="r" b="b"/>
              <a:pathLst>
                <a:path stroke="0" w="5947147" h="3788034">
                  <a:moveTo>
                    <a:pt x="2940054" y="120"/>
                  </a:moveTo>
                  <a:cubicBezTo>
                    <a:pt x="3509287" y="-3967"/>
                    <a:pt x="4068400" y="96107"/>
                    <a:pt x="4550972" y="288454"/>
                  </a:cubicBezTo>
                  <a:cubicBezTo>
                    <a:pt x="5419586" y="634673"/>
                    <a:pt x="5947148" y="1241354"/>
                    <a:pt x="5947148" y="1894017"/>
                  </a:cubicBezTo>
                  <a:lnTo>
                    <a:pt x="2973574" y="1894017"/>
                  </a:lnTo>
                  <a:lnTo>
                    <a:pt x="2940054" y="120"/>
                  </a:lnTo>
                  <a:close/>
                </a:path>
                <a:path fill="none" w="5947147" h="3788034">
                  <a:moveTo>
                    <a:pt x="2940054" y="120"/>
                  </a:moveTo>
                  <a:cubicBezTo>
                    <a:pt x="3509287" y="-3967"/>
                    <a:pt x="4068400" y="96107"/>
                    <a:pt x="4550972" y="288454"/>
                  </a:cubicBezTo>
                  <a:cubicBezTo>
                    <a:pt x="5419586" y="634673"/>
                    <a:pt x="5947148" y="1241354"/>
                    <a:pt x="5947148" y="189401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TextBox 5"/>
            <p:cNvSpPr/>
            <p:nvPr/>
          </p:nvSpPr>
          <p:spPr>
            <a:xfrm>
              <a:off x="7045920" y="2716200"/>
              <a:ext cx="15249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TextBox 5"/>
            <p:cNvSpPr/>
            <p:nvPr/>
          </p:nvSpPr>
          <p:spPr>
            <a:xfrm>
              <a:off x="998640" y="1786680"/>
              <a:ext cx="3557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On Straight Tra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Switches on Track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C4BA-A747-4B2E-BE4F-2526206199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8" name="그룹 1"/>
          <p:cNvGrpSpPr/>
          <p:nvPr/>
        </p:nvGrpSpPr>
        <p:grpSpPr>
          <a:xfrm>
            <a:off x="934920" y="3106800"/>
            <a:ext cx="7659360" cy="4421160"/>
            <a:chOff x="934920" y="3106800"/>
            <a:chExt cx="7659360" cy="4421160"/>
          </a:xfrm>
        </p:grpSpPr>
        <p:grpSp>
          <p:nvGrpSpPr>
            <p:cNvPr id="159" name="그룹 30"/>
            <p:cNvGrpSpPr/>
            <p:nvPr/>
          </p:nvGrpSpPr>
          <p:grpSpPr>
            <a:xfrm>
              <a:off x="997920" y="3106800"/>
              <a:ext cx="7596360" cy="4421160"/>
              <a:chOff x="997920" y="3106800"/>
              <a:chExt cx="7596360" cy="4421160"/>
            </a:xfrm>
          </p:grpSpPr>
          <p:grpSp>
            <p:nvGrpSpPr>
              <p:cNvPr id="160" name="그룹 1"/>
              <p:cNvGrpSpPr/>
              <p:nvPr/>
            </p:nvGrpSpPr>
            <p:grpSpPr>
              <a:xfrm>
                <a:off x="997920" y="3106800"/>
                <a:ext cx="7596360" cy="4421160"/>
                <a:chOff x="997920" y="3106800"/>
                <a:chExt cx="7596360" cy="4421160"/>
              </a:xfrm>
            </p:grpSpPr>
            <p:sp>
              <p:nvSpPr>
                <p:cNvPr id="161" name="원호 35"/>
                <p:cNvSpPr/>
                <p:nvPr/>
              </p:nvSpPr>
              <p:spPr>
                <a:xfrm flipH="1">
                  <a:off x="1114920" y="3517920"/>
                  <a:ext cx="7479000" cy="4010040"/>
                </a:xfrm>
                <a:custGeom>
                  <a:avLst/>
                  <a:gdLst/>
                  <a:ahLst/>
                  <a:rect l="l" t="t" r="r" b="b"/>
                  <a:pathLst>
                    <a:path stroke="0" w="7479313" h="4011005">
                      <a:moveTo>
                        <a:pt x="3704163" y="90"/>
                      </a:moveTo>
                      <a:cubicBezTo>
                        <a:pt x="4338235" y="-3138"/>
                        <a:pt x="4963425" y="80152"/>
                        <a:pt x="5520968" y="242131"/>
                      </a:cubicBezTo>
                      <a:cubicBezTo>
                        <a:pt x="6788981" y="610517"/>
                        <a:pt x="7549018" y="1337080"/>
                        <a:pt x="7474289" y="2109424"/>
                      </a:cubicBezTo>
                      <a:lnTo>
                        <a:pt x="3739657" y="2005503"/>
                      </a:lnTo>
                      <a:lnTo>
                        <a:pt x="3704163" y="90"/>
                      </a:lnTo>
                      <a:close/>
                    </a:path>
                    <a:path fill="none" w="7479313" h="4011005">
                      <a:moveTo>
                        <a:pt x="3704163" y="90"/>
                      </a:moveTo>
                      <a:cubicBezTo>
                        <a:pt x="4338235" y="-3138"/>
                        <a:pt x="4963425" y="80152"/>
                        <a:pt x="5520968" y="242131"/>
                      </a:cubicBezTo>
                      <a:cubicBezTo>
                        <a:pt x="6788981" y="610517"/>
                        <a:pt x="7549018" y="1337080"/>
                        <a:pt x="7474289" y="2109424"/>
                      </a:cubicBezTo>
                    </a:path>
                  </a:pathLst>
                </a:custGeom>
                <a:noFill/>
                <a:ln w="38160">
                  <a:solidFill>
                    <a:srgbClr val="60c9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2" name="TextBox 5"/>
                <p:cNvSpPr/>
                <p:nvPr/>
              </p:nvSpPr>
              <p:spPr>
                <a:xfrm flipH="1">
                  <a:off x="997920" y="3106800"/>
                  <a:ext cx="33177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HY견고딕"/>
                      <a:ea typeface="HY견고딕"/>
                    </a:rPr>
                    <a:t>On Curved Track</a:t>
                  </a: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63" name="원호 32"/>
              <p:cNvSpPr/>
              <p:nvPr/>
            </p:nvSpPr>
            <p:spPr>
              <a:xfrm>
                <a:off x="1953720" y="3511440"/>
                <a:ext cx="5948640" cy="3786120"/>
              </a:xfrm>
              <a:custGeom>
                <a:avLst/>
                <a:gdLst/>
                <a:ahLst/>
                <a:rect l="l" t="t" r="r" b="b"/>
                <a:pathLst>
                  <a:path stroke="0" w="5948840" h="3786855">
                    <a:moveTo>
                      <a:pt x="2940911" y="120"/>
                    </a:moveTo>
                    <a:cubicBezTo>
                      <a:pt x="3510029" y="-3962"/>
                      <a:pt x="4069038" y="95984"/>
                      <a:pt x="4551592" y="288095"/>
                    </a:cubicBezTo>
                    <a:cubicBezTo>
                      <a:pt x="5420839" y="634154"/>
                      <a:pt x="5948841" y="1240788"/>
                      <a:pt x="5948841" y="1893427"/>
                    </a:cubicBezTo>
                    <a:lnTo>
                      <a:pt x="2974420" y="1893428"/>
                    </a:lnTo>
                    <a:lnTo>
                      <a:pt x="2940911" y="120"/>
                    </a:lnTo>
                    <a:close/>
                  </a:path>
                  <a:path fill="none" w="5948840" h="3786855">
                    <a:moveTo>
                      <a:pt x="2940911" y="120"/>
                    </a:moveTo>
                    <a:cubicBezTo>
                      <a:pt x="3510029" y="-3962"/>
                      <a:pt x="4069038" y="95984"/>
                      <a:pt x="4551592" y="288095"/>
                    </a:cubicBezTo>
                    <a:cubicBezTo>
                      <a:pt x="5420839" y="634154"/>
                      <a:pt x="5948841" y="1240788"/>
                      <a:pt x="5948841" y="1893427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4" name="TextBox 5"/>
            <p:cNvSpPr/>
            <p:nvPr/>
          </p:nvSpPr>
          <p:spPr>
            <a:xfrm>
              <a:off x="6926400" y="4576680"/>
              <a:ext cx="15249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TextBox 5"/>
            <p:cNvSpPr/>
            <p:nvPr/>
          </p:nvSpPr>
          <p:spPr>
            <a:xfrm>
              <a:off x="934920" y="4795560"/>
              <a:ext cx="15249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49040"/>
            <a:ext cx="83584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Vehicle Model and Irregularitie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939-8297-433F-9D90-E85408B3F1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그림 1" descr=""/>
          <p:cNvPicPr/>
          <p:nvPr/>
        </p:nvPicPr>
        <p:blipFill>
          <a:blip r:embed="rId1"/>
          <a:stretch/>
        </p:blipFill>
        <p:spPr>
          <a:xfrm>
            <a:off x="2009880" y="887400"/>
            <a:ext cx="5219640" cy="2941560"/>
          </a:xfrm>
          <a:prstGeom prst="rect">
            <a:avLst/>
          </a:prstGeom>
          <a:ln w="0">
            <a:noFill/>
          </a:ln>
        </p:spPr>
      </p:pic>
      <p:pic>
        <p:nvPicPr>
          <p:cNvPr id="169" name="그림 8" descr=""/>
          <p:cNvPicPr/>
          <p:nvPr/>
        </p:nvPicPr>
        <p:blipFill>
          <a:blip r:embed="rId2"/>
          <a:stretch/>
        </p:blipFill>
        <p:spPr>
          <a:xfrm>
            <a:off x="1603440" y="3919680"/>
            <a:ext cx="67071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Effect of Installation Sit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4189-C4D2-49E2-8141-A610CBCDA7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그림 22" descr="EMB000008644765"/>
          <p:cNvPicPr/>
          <p:nvPr/>
        </p:nvPicPr>
        <p:blipFill>
          <a:blip r:embed="rId1"/>
          <a:stretch/>
        </p:blipFill>
        <p:spPr>
          <a:xfrm>
            <a:off x="976320" y="1819440"/>
            <a:ext cx="70070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490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Effect of radius of switch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E056-9525-40AF-96B6-28003EF091C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그림 26" descr="EMB000008644775"/>
          <p:cNvPicPr/>
          <p:nvPr/>
        </p:nvPicPr>
        <p:blipFill>
          <a:blip r:embed="rId1"/>
          <a:stretch/>
        </p:blipFill>
        <p:spPr>
          <a:xfrm>
            <a:off x="985680" y="1482840"/>
            <a:ext cx="71755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149040"/>
            <a:ext cx="8170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Effect of radius of curved track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슬라이드 번호 개체 틀 9"/>
          <p:cNvSpPr/>
          <p:nvPr/>
        </p:nvSpPr>
        <p:spPr>
          <a:xfrm>
            <a:off x="36669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BB9-FD06-42BD-8463-CA6EF77427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그림 4" descr="EMB00000864477d"/>
          <p:cNvPicPr/>
          <p:nvPr/>
        </p:nvPicPr>
        <p:blipFill>
          <a:blip r:embed="rId1"/>
          <a:stretch/>
        </p:blipFill>
        <p:spPr>
          <a:xfrm>
            <a:off x="885960" y="1211400"/>
            <a:ext cx="746748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01:06:10Z</dcterms:created>
  <dc:creator>woo</dc:creator>
  <dc:description/>
  <dc:language>en-US</dc:language>
  <cp:lastModifiedBy>dr.wookj@gmail.com</cp:lastModifiedBy>
  <dcterms:modified xsi:type="dcterms:W3CDTF">2018-04-05T04:11:44Z</dcterms:modified>
  <cp:revision>620</cp:revision>
  <dc:subject/>
  <dc:title>철도차량 소음진동</dc:title>
</cp:coreProperties>
</file>