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jpeg" ContentType="image/jpeg"/>
  <Override PartName="/ppt/media/image32.wmf" ContentType="image/x-wmf"/>
  <Override PartName="/ppt/media/image4.jpeg" ContentType="image/jpeg"/>
  <Override PartName="/ppt/media/image10.wmf" ContentType="image/x-wmf"/>
  <Override PartName="/ppt/media/image13.jpeg" ContentType="image/jpeg"/>
  <Override PartName="/ppt/media/image30.wmf" ContentType="image/x-wmf"/>
  <Override PartName="/ppt/media/image6.jpeg" ContentType="image/jpeg"/>
  <Override PartName="/ppt/media/image31.wmf" ContentType="image/x-wmf"/>
  <Override PartName="/ppt/media/image38.jpeg" ContentType="image/jpeg"/>
  <Override PartName="/ppt/media/image17.wmf" ContentType="image/x-wmf"/>
  <Override PartName="/ppt/media/image33.wmf" ContentType="image/x-wmf"/>
  <Override PartName="/ppt/media/image12.jpeg" ContentType="image/jpeg"/>
  <Override PartName="/ppt/media/image34.wmf" ContentType="image/x-wmf"/>
  <Override PartName="/ppt/media/image9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6.wmf" ContentType="image/x-wmf"/>
  <Override PartName="/ppt/media/image37.wmf" ContentType="image/x-wmf"/>
  <Override PartName="/ppt/media/image11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image5.jpeg" ContentType="image/jpeg"/>
  <Override PartName="/ppt/media/image25.wmf" ContentType="image/x-wmf"/>
  <Override PartName="/ppt/media/image20.png" ContentType="image/png"/>
  <Override PartName="/ppt/media/image18.wmf" ContentType="image/x-wmf"/>
  <Override PartName="/ppt/media/image2.jpeg" ContentType="image/jpe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34C4-3130-48A0-9F94-2A82A702F7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5C7D-56C9-4C07-A10D-F2ED7197AD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badgebg"/>
          <p:cNvPicPr/>
          <p:nvPr/>
        </p:nvPicPr>
        <p:blipFill>
          <a:blip r:embed="rId3"/>
          <a:stretch/>
        </p:blipFill>
        <p:spPr>
          <a:xfrm>
            <a:off x="1476360" y="1131840"/>
            <a:ext cx="7093080" cy="53737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838080" y="914400"/>
            <a:ext cx="8305920" cy="1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5" descr="10"/>
          <p:cNvPicPr/>
          <p:nvPr/>
        </p:nvPicPr>
        <p:blipFill>
          <a:blip r:embed="rId3"/>
          <a:stretch/>
        </p:blipFill>
        <p:spPr>
          <a:xfrm>
            <a:off x="6229440" y="3979800"/>
            <a:ext cx="2914560" cy="2878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7" descr="北方交通大学—世纪钟（校钟）"/>
          <p:cNvPicPr/>
          <p:nvPr/>
        </p:nvPicPr>
        <p:blipFill>
          <a:blip r:embed="rId4"/>
          <a:stretch/>
        </p:blipFill>
        <p:spPr>
          <a:xfrm>
            <a:off x="5748480" y="179280"/>
            <a:ext cx="842760" cy="5684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8" descr="北方交通大学—思源楼"/>
          <p:cNvPicPr/>
          <p:nvPr/>
        </p:nvPicPr>
        <p:blipFill>
          <a:blip r:embed="rId5"/>
          <a:stretch/>
        </p:blipFill>
        <p:spPr>
          <a:xfrm>
            <a:off x="7429680" y="184320"/>
            <a:ext cx="952200" cy="5634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9" descr="09525834336"/>
          <p:cNvPicPr/>
          <p:nvPr/>
        </p:nvPicPr>
        <p:blipFill>
          <a:blip r:embed="rId6"/>
          <a:stretch/>
        </p:blipFill>
        <p:spPr>
          <a:xfrm>
            <a:off x="6591240" y="179280"/>
            <a:ext cx="838440" cy="56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1" descr="19楼"/>
          <p:cNvPicPr/>
          <p:nvPr/>
        </p:nvPicPr>
        <p:blipFill>
          <a:blip r:embed="rId7"/>
          <a:stretch/>
        </p:blipFill>
        <p:spPr>
          <a:xfrm>
            <a:off x="8381880" y="184320"/>
            <a:ext cx="762120" cy="563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2" descr="20055131012136649"/>
          <p:cNvPicPr/>
          <p:nvPr/>
        </p:nvPicPr>
        <p:blipFill>
          <a:blip r:embed="rId8"/>
          <a:stretch/>
        </p:blipFill>
        <p:spPr>
          <a:xfrm>
            <a:off x="4867200" y="184320"/>
            <a:ext cx="881280" cy="56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10008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71984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ras Medium ITC"/>
              </a:rPr>
              <a:t>A vehicle-bridge interaction dynamic system analysis method based on inter-system ite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71984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ras Medium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71984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77198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Medium ITC"/>
              </a:rPr>
              <a:t>Zhang Nan and Zhou Shu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77198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Medium ITC"/>
              </a:rPr>
              <a:t>Beijing Jiaotong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77198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77198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198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Medium ITC"/>
              </a:rPr>
              <a:t>Bryansk, Russia, 2018-04-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6"/>
          <p:cNvSpPr/>
          <p:nvPr/>
        </p:nvSpPr>
        <p:spPr>
          <a:xfrm>
            <a:off x="1600200" y="3049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Eras Medium ITC"/>
                <a:ea typeface="华文中宋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20720" y="1260360"/>
            <a:ext cx="80424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Mid span vertical displacement (left ISI, right 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Mid span vertical acceleration (left ISI, right 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对象 1"/>
          <p:cNvGraphicFramePr/>
          <p:nvPr/>
        </p:nvGraphicFramePr>
        <p:xfrm>
          <a:off x="1143000" y="1905120"/>
          <a:ext cx="26290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2629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对象 2"/>
          <p:cNvGraphicFramePr/>
          <p:nvPr/>
        </p:nvGraphicFramePr>
        <p:xfrm>
          <a:off x="4572000" y="1905120"/>
          <a:ext cx="262908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905120"/>
                    <a:ext cx="2629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对象 7"/>
          <p:cNvGraphicFramePr/>
          <p:nvPr/>
        </p:nvGraphicFramePr>
        <p:xfrm>
          <a:off x="1143000" y="4638600"/>
          <a:ext cx="262908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对象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638600"/>
                    <a:ext cx="2629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对象 8"/>
          <p:cNvGraphicFramePr/>
          <p:nvPr/>
        </p:nvGraphicFramePr>
        <p:xfrm>
          <a:off x="4572000" y="4638600"/>
          <a:ext cx="2629080" cy="18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对象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638600"/>
                    <a:ext cx="2629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6"/>
          <p:cNvSpPr/>
          <p:nvPr/>
        </p:nvSpPr>
        <p:spPr>
          <a:xfrm>
            <a:off x="1600200" y="3049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Eras Medium ITC"/>
                <a:ea typeface="华文中宋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20720" y="1260360"/>
            <a:ext cx="80424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Car body vertical acceleration (left ISI, right 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Car body lateral acceleration (left ISI, right 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对象 3"/>
          <p:cNvGraphicFramePr/>
          <p:nvPr/>
        </p:nvGraphicFramePr>
        <p:xfrm>
          <a:off x="1143000" y="1905120"/>
          <a:ext cx="26290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对象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2629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对象 5"/>
          <p:cNvGraphicFramePr/>
          <p:nvPr/>
        </p:nvGraphicFramePr>
        <p:xfrm>
          <a:off x="4572000" y="1905120"/>
          <a:ext cx="262908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对象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905120"/>
                    <a:ext cx="2629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对象 9"/>
          <p:cNvGraphicFramePr/>
          <p:nvPr/>
        </p:nvGraphicFramePr>
        <p:xfrm>
          <a:off x="1143000" y="4638600"/>
          <a:ext cx="262908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对象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638600"/>
                    <a:ext cx="2629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对象 11"/>
          <p:cNvGraphicFramePr/>
          <p:nvPr/>
        </p:nvGraphicFramePr>
        <p:xfrm>
          <a:off x="4572000" y="4638600"/>
          <a:ext cx="2629080" cy="18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对象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638600"/>
                    <a:ext cx="2629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6"/>
          <p:cNvSpPr/>
          <p:nvPr/>
        </p:nvSpPr>
        <p:spPr>
          <a:xfrm>
            <a:off x="1600200" y="3049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Eras Medium ITC"/>
                <a:ea typeface="华文中宋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20720" y="1260360"/>
            <a:ext cx="80424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Vertical wheel-rail contact force (left ISI, right 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Lateral wheel-rail contact force (left ISI, right 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对象 2"/>
          <p:cNvGraphicFramePr/>
          <p:nvPr/>
        </p:nvGraphicFramePr>
        <p:xfrm>
          <a:off x="1143000" y="1905120"/>
          <a:ext cx="26290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2629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对象 6"/>
          <p:cNvGraphicFramePr/>
          <p:nvPr/>
        </p:nvGraphicFramePr>
        <p:xfrm>
          <a:off x="4572000" y="1905120"/>
          <a:ext cx="262908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对象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905120"/>
                    <a:ext cx="2629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对象 8"/>
          <p:cNvGraphicFramePr/>
          <p:nvPr/>
        </p:nvGraphicFramePr>
        <p:xfrm>
          <a:off x="1171440" y="4638600"/>
          <a:ext cx="262908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对象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1440" y="4638600"/>
                    <a:ext cx="2629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对象 12"/>
          <p:cNvGraphicFramePr/>
          <p:nvPr/>
        </p:nvGraphicFramePr>
        <p:xfrm>
          <a:off x="4578480" y="4638600"/>
          <a:ext cx="2628720" cy="18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对象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8480" y="4638600"/>
                    <a:ext cx="2628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1600200" y="3049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Eras Medium ITC"/>
                <a:ea typeface="华文中宋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20720" y="1260360"/>
            <a:ext cx="80424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Derailment factor (left ISI, right 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Offloading factor (left ISI, right 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对象 3"/>
          <p:cNvGraphicFramePr/>
          <p:nvPr/>
        </p:nvGraphicFramePr>
        <p:xfrm>
          <a:off x="1171440" y="1905120"/>
          <a:ext cx="26290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对象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905120"/>
                    <a:ext cx="2629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对象 5"/>
          <p:cNvGraphicFramePr/>
          <p:nvPr/>
        </p:nvGraphicFramePr>
        <p:xfrm>
          <a:off x="4578480" y="1905120"/>
          <a:ext cx="26287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对象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8480" y="1905120"/>
                    <a:ext cx="2628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对象 9"/>
          <p:cNvGraphicFramePr/>
          <p:nvPr/>
        </p:nvGraphicFramePr>
        <p:xfrm>
          <a:off x="1171440" y="4638600"/>
          <a:ext cx="262908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对象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1440" y="4638600"/>
                    <a:ext cx="2629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对象 11"/>
          <p:cNvGraphicFramePr/>
          <p:nvPr/>
        </p:nvGraphicFramePr>
        <p:xfrm>
          <a:off x="4578480" y="4638600"/>
          <a:ext cx="2628720" cy="18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对象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8480" y="4638600"/>
                    <a:ext cx="2628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6"/>
          <p:cNvSpPr/>
          <p:nvPr/>
        </p:nvSpPr>
        <p:spPr>
          <a:xfrm>
            <a:off x="1600200" y="3049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Eras Medium ITC"/>
                <a:ea typeface="华文中宋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720720" y="1260360"/>
            <a:ext cx="804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For the calculation of vehicle-bridge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The model of brid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The time step used in calcul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The track structure consid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The safety criter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The effect of longitudinal mov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For 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Adoption of other softw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Report in standard form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3" descr="fall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0" y="57150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Blackadder ITC"/>
              </a:rPr>
              <a:t>Thank you  </a:t>
            </a:r>
            <a:r>
              <a:rPr b="1" lang="zh-CN" sz="5400" spc="-1" strike="noStrike">
                <a:solidFill>
                  <a:srgbClr val="00b050"/>
                </a:solidFill>
                <a:latin typeface="华文新魏"/>
                <a:ea typeface="华文新魏"/>
              </a:rPr>
              <a:t>谢谢</a:t>
            </a:r>
            <a:r>
              <a:rPr b="1" lang="zh-CN" sz="5400" spc="-1" strike="noStrike">
                <a:solidFill>
                  <a:srgbClr val="00b050"/>
                </a:solidFill>
                <a:latin typeface="IPAPANNEW"/>
                <a:ea typeface="隶书"/>
              </a:rPr>
              <a:t>  </a:t>
            </a:r>
            <a:r>
              <a:rPr b="1" lang="en-US" sz="5400" spc="-1" strike="noStrike">
                <a:solidFill>
                  <a:srgbClr val="00b050"/>
                </a:solidFill>
                <a:latin typeface="Monotype Corsiva"/>
              </a:rPr>
              <a:t>C</a:t>
            </a:r>
            <a:r>
              <a:rPr b="1" lang="az-Cyrl-AZ" sz="5400" spc="-1" strike="noStrike">
                <a:solidFill>
                  <a:srgbClr val="00b050"/>
                </a:solidFill>
                <a:latin typeface="Monotype Corsiva"/>
              </a:rPr>
              <a:t>пасиб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1600200" y="3049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Eras Medium ITC"/>
                <a:ea typeface="华文中宋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720720" y="1260360"/>
            <a:ext cx="7813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The vehicle-bridge interac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3402000" y="2097000"/>
            <a:ext cx="1028880" cy="611280"/>
          </a:xfrm>
          <a:prstGeom prst="wedgeRoundRectCallout">
            <a:avLst>
              <a:gd name="adj1" fmla="val -82504"/>
              <a:gd name="adj2" fmla="val 117550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Eras Medium ITC"/>
                <a:ea typeface="华文中宋"/>
              </a:rPr>
              <a:t>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714240" y="4329000"/>
            <a:ext cx="1681200" cy="612720"/>
          </a:xfrm>
          <a:prstGeom prst="wedgeRoundRectCallout">
            <a:avLst>
              <a:gd name="adj1" fmla="val 60671"/>
              <a:gd name="adj2" fmla="val -92486"/>
              <a:gd name="adj3" fmla="val 16667"/>
            </a:avLst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Eras Medium ITC"/>
                <a:ea typeface="华文中宋"/>
              </a:rPr>
              <a:t>Earthquake, sett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4168800" y="4167360"/>
            <a:ext cx="1360440" cy="610920"/>
          </a:xfrm>
          <a:prstGeom prst="wedgeRoundRectCallout">
            <a:avLst>
              <a:gd name="adj1" fmla="val -35166"/>
              <a:gd name="adj2" fmla="val -95712"/>
              <a:gd name="adj3" fmla="val 16667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Eras Medium ITC"/>
                <a:ea typeface="华文中宋"/>
              </a:rPr>
              <a:t>Sco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4879800" y="2097000"/>
            <a:ext cx="2014560" cy="611280"/>
          </a:xfrm>
          <a:prstGeom prst="wedgeRoundRectCallout">
            <a:avLst>
              <a:gd name="adj1" fmla="val -83064"/>
              <a:gd name="adj2" fmla="val 11997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  <a:ea typeface="华文中宋"/>
              </a:rPr>
              <a:t>Deformation of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385920" y="2097000"/>
            <a:ext cx="1734840" cy="611280"/>
          </a:xfrm>
          <a:prstGeom prst="wedgeRoundRectCallout">
            <a:avLst>
              <a:gd name="adj1" fmla="val 90083"/>
              <a:gd name="adj2" fmla="val 140064"/>
              <a:gd name="adj3" fmla="val 16667"/>
            </a:avLst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Eras Medium ITC"/>
                <a:ea typeface="微软雅黑"/>
              </a:rPr>
              <a:t>Structure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4"/>
          <p:cNvSpPr/>
          <p:nvPr/>
        </p:nvSpPr>
        <p:spPr>
          <a:xfrm>
            <a:off x="2514600" y="4365720"/>
            <a:ext cx="1352520" cy="610920"/>
          </a:xfrm>
          <a:prstGeom prst="wedgeRoundRectCallout">
            <a:avLst>
              <a:gd name="adj1" fmla="val -62060"/>
              <a:gd name="adj2" fmla="val -157949"/>
              <a:gd name="adj3" fmla="val 16667"/>
            </a:avLst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Eras Medium ITC"/>
                <a:ea typeface="华文中宋"/>
              </a:rPr>
              <a:t>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15"/>
          <p:cNvGraphicFramePr/>
          <p:nvPr/>
        </p:nvGraphicFramePr>
        <p:xfrm>
          <a:off x="920880" y="5384880"/>
          <a:ext cx="35528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5384880"/>
                    <a:ext cx="3552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7"/>
          <p:cNvSpPr/>
          <p:nvPr/>
        </p:nvSpPr>
        <p:spPr>
          <a:xfrm>
            <a:off x="5888160" y="3240000"/>
            <a:ext cx="3057480" cy="32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  <a:ea typeface="华文中宋"/>
              </a:rPr>
              <a:t>Deformation of track: </a:t>
            </a:r>
            <a:r>
              <a:rPr b="1" i="1" lang="en-US" sz="1800" spc="-1" strike="noStrike">
                <a:solidFill>
                  <a:srgbClr val="000000"/>
                </a:solidFill>
                <a:latin typeface="Eras Medium ITC"/>
                <a:ea typeface="华文中宋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Eras Medium ITC"/>
                <a:ea typeface="华文中宋"/>
              </a:rPr>
              <a:t>Wind: 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Eras Medium ITC"/>
                <a:ea typeface="华文中宋"/>
              </a:rPr>
              <a:t>v</a:t>
            </a:r>
            <a:r>
              <a:rPr b="1" lang="zh-CN" sz="1800" spc="-1" strike="noStrike">
                <a:solidFill>
                  <a:srgbClr val="ff0000"/>
                </a:solidFill>
                <a:latin typeface="Eras Medium ITC"/>
                <a:ea typeface="华文中宋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Eras Medium ITC"/>
                <a:ea typeface="华文中宋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Eras Medium ITC"/>
                <a:ea typeface="华文中宋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Eras Medium ITC"/>
                <a:ea typeface="华文中宋"/>
              </a:rPr>
              <a:t>Collision</a:t>
            </a:r>
            <a:r>
              <a:rPr b="1" lang="zh-CN" sz="1800" spc="-1" strike="noStrike">
                <a:solidFill>
                  <a:srgbClr val="ff3399"/>
                </a:solidFill>
                <a:latin typeface="Eras Medium ITC"/>
                <a:ea typeface="华文中宋"/>
              </a:rPr>
              <a:t>：</a:t>
            </a:r>
            <a:r>
              <a:rPr b="1" lang="en-US" sz="1800" spc="-1" strike="noStrike">
                <a:solidFill>
                  <a:srgbClr val="ff3399"/>
                </a:solidFill>
                <a:latin typeface="Eras Medium ITC"/>
                <a:ea typeface="华文中宋"/>
              </a:rPr>
              <a:t>F</a:t>
            </a:r>
            <a:r>
              <a:rPr b="1" lang="en-US" sz="1800" spc="-1" strike="noStrike" baseline="-25000">
                <a:solidFill>
                  <a:srgbClr val="ff3399"/>
                </a:solidFill>
                <a:latin typeface="Eras Medium ITC"/>
                <a:ea typeface="华文中宋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Eras Medium ITC"/>
                <a:ea typeface="华文中宋"/>
              </a:rPr>
              <a:t>Structure damage: K</a:t>
            </a:r>
            <a:r>
              <a:rPr b="1" lang="en-US" sz="1800" spc="-1" strike="noStrike" baseline="-25000">
                <a:solidFill>
                  <a:srgbClr val="0066ff"/>
                </a:solidFill>
                <a:latin typeface="Eras Medium ITC"/>
                <a:ea typeface="华文中宋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Eras Medium ITC"/>
                <a:ea typeface="华文中宋"/>
              </a:rPr>
              <a:t>Scouring: K</a:t>
            </a:r>
            <a:r>
              <a:rPr b="1" lang="en-US" sz="1800" spc="-1" strike="noStrike" baseline="-25000">
                <a:solidFill>
                  <a:srgbClr val="ff6600"/>
                </a:solidFill>
                <a:latin typeface="Eras Medium ITC"/>
                <a:ea typeface="华文中宋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Eras Medium ITC"/>
                <a:ea typeface="华文中宋"/>
              </a:rPr>
              <a:t>Earthquake, settlement: X</a:t>
            </a:r>
            <a:r>
              <a:rPr b="1" lang="en-US" sz="1800" spc="-1" strike="noStrike" baseline="-25000">
                <a:solidFill>
                  <a:srgbClr val="006600"/>
                </a:solidFill>
                <a:latin typeface="Eras Medium ITC"/>
                <a:ea typeface="华文中宋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"/>
          <p:cNvPicPr/>
          <p:nvPr/>
        </p:nvPicPr>
        <p:blipFill>
          <a:blip r:embed="rId3"/>
          <a:stretch/>
        </p:blipFill>
        <p:spPr>
          <a:xfrm>
            <a:off x="714240" y="2646360"/>
            <a:ext cx="4627800" cy="1328760"/>
          </a:xfrm>
          <a:prstGeom prst="rect">
            <a:avLst/>
          </a:prstGeom>
          <a:ln w="0">
            <a:noFill/>
          </a:ln>
        </p:spPr>
      </p:pic>
      <p:sp>
        <p:nvSpPr>
          <p:cNvPr id="100" name="圆角矩形 1"/>
          <p:cNvSpPr/>
          <p:nvPr/>
        </p:nvSpPr>
        <p:spPr>
          <a:xfrm>
            <a:off x="5830920" y="3336840"/>
            <a:ext cx="3114720" cy="2489400"/>
          </a:xfrm>
          <a:prstGeom prst="roundRect">
            <a:avLst>
              <a:gd name="adj" fmla="val 16667"/>
            </a:avLst>
          </a:prstGeom>
          <a:solidFill>
            <a:srgbClr val="9ed3d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1600200" y="3049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Eras Medium ITC"/>
                <a:ea typeface="华文中宋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20720" y="1260360"/>
            <a:ext cx="80424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Questions for vehicle-bridge interac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Is the train in danger when running through a brid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Is the passenger discomforted when running through a brid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Is the bridge under the obvious problem of fatig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Required by the bridge designing c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新建时速200-250公里客运专线铁路设计暂行规定(上下)_页面_003"/>
          <p:cNvPicPr/>
          <p:nvPr/>
        </p:nvPicPr>
        <p:blipFill>
          <a:blip r:embed="rId1"/>
          <a:stretch/>
        </p:blipFill>
        <p:spPr>
          <a:xfrm>
            <a:off x="3570120" y="4584600"/>
            <a:ext cx="1352880" cy="1922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新建时速200公里客货共线铁路设计暂行规定 铁建设函[2005]285号 清晰扫描pdf版_页面_001"/>
          <p:cNvPicPr/>
          <p:nvPr/>
        </p:nvPicPr>
        <p:blipFill>
          <a:blip r:embed="rId2"/>
          <a:stretch/>
        </p:blipFill>
        <p:spPr>
          <a:xfrm>
            <a:off x="5218200" y="4584600"/>
            <a:ext cx="1350720" cy="1922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8" descr="高速铁路设计规范(试行)_页面_001"/>
          <p:cNvPicPr/>
          <p:nvPr/>
        </p:nvPicPr>
        <p:blipFill>
          <a:blip r:embed="rId3"/>
          <a:stretch/>
        </p:blipFill>
        <p:spPr>
          <a:xfrm>
            <a:off x="2097000" y="4584600"/>
            <a:ext cx="1239840" cy="19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"/>
          <p:cNvSpPr/>
          <p:nvPr/>
        </p:nvSpPr>
        <p:spPr>
          <a:xfrm>
            <a:off x="1600200" y="3049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Eras Medium ITC"/>
                <a:ea typeface="华文中宋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20720" y="1260360"/>
            <a:ext cx="8042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Models for vehicle and 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581640" cy="2670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2220840" cy="2104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"/>
          <p:cNvPicPr/>
          <p:nvPr/>
        </p:nvPicPr>
        <p:blipFill>
          <a:blip r:embed="rId3"/>
          <a:stretch/>
        </p:blipFill>
        <p:spPr>
          <a:xfrm>
            <a:off x="3200400" y="4606920"/>
            <a:ext cx="2016000" cy="2070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7"/>
          <p:cNvSpPr/>
          <p:nvPr/>
        </p:nvSpPr>
        <p:spPr>
          <a:xfrm>
            <a:off x="4989600" y="1873080"/>
            <a:ext cx="3759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  <a:ea typeface="华文中宋"/>
              </a:rPr>
              <a:t>Elastic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  <a:ea typeface="华文中宋"/>
              </a:rPr>
              <a:t>Viscous dam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  <a:ea typeface="华文中宋"/>
              </a:rPr>
              <a:t>Multi-body dynamic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12"/>
          <p:cNvSpPr/>
          <p:nvPr/>
        </p:nvSpPr>
        <p:spPr>
          <a:xfrm>
            <a:off x="5281560" y="3762360"/>
            <a:ext cx="3481560" cy="2633760"/>
          </a:xfrm>
          <a:prstGeom prst="roundRect">
            <a:avLst>
              <a:gd name="adj" fmla="val 16667"/>
            </a:avLst>
          </a:prstGeom>
          <a:solidFill>
            <a:srgbClr val="9ed3d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8"/>
          <p:cNvSpPr/>
          <p:nvPr/>
        </p:nvSpPr>
        <p:spPr>
          <a:xfrm>
            <a:off x="4800600" y="1882800"/>
            <a:ext cx="3711600" cy="1319040"/>
          </a:xfrm>
          <a:prstGeom prst="roundRect">
            <a:avLst>
              <a:gd name="adj" fmla="val 16667"/>
            </a:avLst>
          </a:prstGeom>
          <a:solidFill>
            <a:srgbClr val="9ed3d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5443560" y="3809880"/>
            <a:ext cx="33829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  <a:ea typeface="华文中宋"/>
              </a:rPr>
              <a:t>In vertical / norm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  <a:ea typeface="华文中宋"/>
              </a:rPr>
              <a:t>Corresponding as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  <a:ea typeface="华文中宋"/>
              </a:rPr>
              <a:t>Hertz contact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  <a:ea typeface="华文中宋"/>
              </a:rPr>
              <a:t>In lateral /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  <a:ea typeface="华文中宋"/>
              </a:rPr>
              <a:t>Hunting as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  <a:ea typeface="华文中宋"/>
              </a:rPr>
              <a:t>Kalker linear creep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6"/>
          <p:cNvSpPr/>
          <p:nvPr/>
        </p:nvSpPr>
        <p:spPr>
          <a:xfrm>
            <a:off x="1600200" y="3049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Eras Medium ITC"/>
                <a:ea typeface="华文中宋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20720" y="1260360"/>
            <a:ext cx="80424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Vehicle-bridge interaction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Wheel-rail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Substituted by the wheel-rail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7"/>
          <p:cNvGraphicFramePr/>
          <p:nvPr/>
        </p:nvGraphicFramePr>
        <p:xfrm>
          <a:off x="1371600" y="1841400"/>
          <a:ext cx="303696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41400"/>
                    <a:ext cx="303696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11"/>
          <p:cNvGraphicFramePr/>
          <p:nvPr/>
        </p:nvGraphicFramePr>
        <p:xfrm>
          <a:off x="1371600" y="3117960"/>
          <a:ext cx="2575080" cy="10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3117960"/>
                    <a:ext cx="25750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3"/>
          <p:cNvGraphicFramePr/>
          <p:nvPr/>
        </p:nvGraphicFramePr>
        <p:xfrm>
          <a:off x="1371600" y="4619520"/>
          <a:ext cx="6810480" cy="140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619520"/>
                    <a:ext cx="681048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Picture 8" descr="未命名"/>
          <p:cNvPicPr/>
          <p:nvPr/>
        </p:nvPicPr>
        <p:blipFill>
          <a:blip r:embed="rId7"/>
          <a:srcRect l="2797" t="2474" r="55242" b="69797"/>
          <a:stretch/>
        </p:blipFill>
        <p:spPr>
          <a:xfrm>
            <a:off x="5543640" y="1479600"/>
            <a:ext cx="3432240" cy="28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"/>
          <p:cNvSpPr/>
          <p:nvPr/>
        </p:nvSpPr>
        <p:spPr>
          <a:xfrm>
            <a:off x="1600200" y="3049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Eras Medium ITC"/>
                <a:ea typeface="华文中宋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20720" y="1260360"/>
            <a:ext cx="8042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Inter-history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1625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1600200" y="3049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Eras Medium ITC"/>
                <a:ea typeface="华文中宋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20720" y="1260360"/>
            <a:ext cx="80424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Step1: To solve the vehicle by assuming the bridge is rigid, using the track irregularities as the excitation, to obtain the time histories of wheel-rail forces for all wheel-se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Step 2: To solve the bridge by applying the wheel-rail force histories on bridge deck, to obtain the updated time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Step 3: To solve the vehicle by combining the updated bridge deck movements obtained in Step 2 with the track, to obtain the updated time histories of wheel-rail forc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Step 4: To calculate the errors, if the errors for all wheel-sets in the whole  history small enough, the convergence check is OK; otherwise return to Step 2 to start a next iteration lo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1600200" y="3049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Eras Medium ITC"/>
                <a:ea typeface="华文中宋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20720" y="1260360"/>
            <a:ext cx="804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CRH2 train, 8 vehicles, MTMTTMTM, 300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31.5m simply-supported beam, 10 spans, without p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Mid span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Track irregularity: German Low Disturb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32-2"/>
          <p:cNvPicPr/>
          <p:nvPr/>
        </p:nvPicPr>
        <p:blipFill>
          <a:blip r:embed="rId1"/>
          <a:stretch/>
        </p:blipFill>
        <p:spPr>
          <a:xfrm>
            <a:off x="1828800" y="3124080"/>
            <a:ext cx="60199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6"/>
          <p:cNvSpPr/>
          <p:nvPr/>
        </p:nvSpPr>
        <p:spPr>
          <a:xfrm>
            <a:off x="1600200" y="3049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Eras Medium ITC"/>
                <a:ea typeface="华文中宋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20720" y="1260360"/>
            <a:ext cx="804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Method1 (I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Inter-history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Bridge model by ANS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Vehicle model by 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Wheel-rail relation by DRVB (by my research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457200">
              <a:lnSpc>
                <a:spcPct val="150000"/>
              </a:lnSpc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Transferring UM w/r force into ANSYS comman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457200">
              <a:lnSpc>
                <a:spcPct val="150000"/>
              </a:lnSpc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Transferring ANSYS displacement into irregularity data for each wheel-set in 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Method 2 (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lnSpc>
                <a:spcPct val="150000"/>
              </a:lnSpc>
              <a:buClr>
                <a:srgbClr val="00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微软雅黑"/>
              </a:rPr>
              <a:t>UM, non-mass track (Hertz contact and Kalker linear cre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张楠</cp:lastModifiedBy>
  <dcterms:modified xsi:type="dcterms:W3CDTF">2018-04-03T04:48:01Z</dcterms:modified>
  <cp:revision>28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