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4CF5-AE99-4814-85C6-7043EB4F9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EDB5-D226-409E-B9B1-89F51E5578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1A78-89FC-4D01-83F5-C3D367AA38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587-5DD9-4F34-A4BB-645A468851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5C20-3C0D-4D8B-89D6-05787847EB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F16-3B37-46A4-9018-4300061A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D47-FD2D-4D19-841C-3D4BB574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EA1-536F-4462-B932-5990BAED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348-DB9D-4677-98FC-000B9E23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005-9038-4B13-B8FD-890A2BE2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090-7490-4F4A-9CBE-3A07332D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267-11C3-42B8-9BA4-369E0C13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9F7-35BA-410F-8A78-A5E8379E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2F9-052C-4C5C-91D8-3371CEF8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A06-C6C2-4DA6-AF3E-8850C74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181-237E-4E63-B0C7-61C501F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1B3E-47C8-44F2-92DC-607B430A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F97C-1D7B-436E-89E4-AE2A4A0260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144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2300" spc="-1" strike="noStrike">
                <a:solidFill>
                  <a:srgbClr val="254061"/>
                </a:solidFill>
                <a:latin typeface="Cambria"/>
                <a:ea typeface="Times New Roman"/>
              </a:rPr>
              <a:t>Оценка энергетической эффективности электровоза c асинхронным тяговым приводом методами компьютерного моделирования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141720" y="1341360"/>
            <a:ext cx="2859120" cy="13464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0" y="4292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.А. Зарифьян, А.А. Андрющенко, П.Г. Колпахчь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76200" y="8614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нализа энергетической эффективности электровоза ЭП20 был использован штатный бортовой регистратор отечественного производства, предназначенный для записи и хранения диагностической и служебной информации, получаемой от аппаратуры управления и диагностики локомотива по каналам связ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4400" y="-27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4. Определение эксплуатационного КПД электров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468360" y="2490840"/>
            <a:ext cx="8489880" cy="20178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1446120" y="4949640"/>
            <a:ext cx="64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полученные из бортового регистрато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контактной се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, потребляемый электровоз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ная сила тя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1..F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тельная сила тяги на каждой о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электров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:\Disser\ep20_data\кпд ЭП20.png"/>
          <p:cNvPicPr/>
          <p:nvPr/>
        </p:nvPicPr>
        <p:blipFill>
          <a:blip r:embed="rId1"/>
          <a:stretch/>
        </p:blipFill>
        <p:spPr>
          <a:xfrm>
            <a:off x="1714680" y="928800"/>
            <a:ext cx="5927400" cy="4545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  <a:ea typeface="Times New Roman"/>
              </a:rPr>
              <a:t>Эксплуатационный КПД электровоза  по данным бортового регистрат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289080" y="5505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КПД электровоза от его касательной силы тяги и скорости, полученная путем статистической обработки записей бортового регистратора, отображена в виде цветовой карты. Линиями показаны тяговые характеристики ЭП20 в часовом и продолжительном режи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85840" y="862920"/>
            <a:ext cx="86770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получена в результате обработки записей регистраторов, полученных во время поездок на участках маршрута Москва – Адлер, электрифицированных на постоянном токе. Здесь учитывается работа преобразователей и двигателей, тепловые и электромагнитные потери, затраты на собственные нужды.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казать, что это результат многократно повторенного натурного эксперимента, условия которого определены режимами эксплуатац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Зависимость КПД электровоза ЭП20 от мощности на валах АТД и К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1643040" y="2674800"/>
            <a:ext cx="597708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320" y="-27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4. Алгоритм регулирования мощности и числа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тяговых двига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G:\2015 10 Элтранс ПГУПС\кпд от мощности ЭП20.png"/>
          <p:cNvPicPr/>
          <p:nvPr/>
        </p:nvPicPr>
        <p:blipFill>
          <a:blip r:embed="rId1"/>
          <a:stretch/>
        </p:blipFill>
        <p:spPr>
          <a:xfrm>
            <a:off x="539640" y="1413000"/>
            <a:ext cx="8163000" cy="54021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144360" y="836640"/>
            <a:ext cx="87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следующий алгоритм выбора числа тяговых двигателей в зависимости от мгновенного значения мощности электров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787320" y="3936960"/>
            <a:ext cx="7319880" cy="2482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Объект 4"/>
          <p:cNvGraphicFramePr/>
          <p:nvPr/>
        </p:nvGraphicFramePr>
        <p:xfrm>
          <a:off x="426960" y="765000"/>
          <a:ext cx="8393040" cy="206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960" y="765000"/>
                    <a:ext cx="839304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Прямоугольник 5"/>
          <p:cNvSpPr/>
          <p:nvPr/>
        </p:nvSpPr>
        <p:spPr>
          <a:xfrm>
            <a:off x="297000" y="241200"/>
            <a:ext cx="85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  <a:ea typeface="Times New Roman"/>
              </a:rPr>
              <a:t>Структурная схема энергоэффективной системы управления силой 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819000" y="3429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  <a:ea typeface="Times New Roman"/>
              </a:rPr>
              <a:t>Структурная схема регулятора количества ТЭД в режиме 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Вариант отключения части тяговых двигателей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при неполной нагруз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738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Дополнительные треб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внивание ресурса всех ТЭД локомоти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ие перегрева ТЭД, температура двигателей должна оставаться в определенном диапазо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ие срыва колесных пар в боксование при возрастании нагрузки на работающие ТЭ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щение возникновения дополнительных продольно-динамических нагрузок (плавное изменение мощности работающих ТЭД при переключени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обеспечиваться наддув воздуха в корпуса отключенных ТЭ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6. Компьютерная модель электровоза как управляемой электромеханическ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08000" y="912960"/>
            <a:ext cx="867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ладки параметров полученного алгоритма и оценки его эффективности была создана компьютерная модель электровоза. Электровоз рассматривается как управляемая электромеханическая система, которая включает механическую часть в виде системы подвижно соединенных твердых тел, электрическую часть (устройства преобразования энергии и тяговые двигатели) и систему управления (алгоритмы управления и их программная реализац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MathMod-struct"/>
          <p:cNvPicPr/>
          <p:nvPr/>
        </p:nvPicPr>
        <p:blipFill>
          <a:blip r:embed="rId1"/>
          <a:stretch/>
        </p:blipFill>
        <p:spPr>
          <a:xfrm>
            <a:off x="1090440" y="2276640"/>
            <a:ext cx="7902720" cy="3713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550800" y="4495680"/>
            <a:ext cx="38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контактной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яговые преобразов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яговые двига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ханическая ч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ез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оцессы в контакте колесо-рель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истема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75640" cy="6194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Структурная схема компьютерной модели электров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4955760"/>
            <a:ext cx="88934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яге находились все шесть ТЭД, и было воспроизведено движение по участкам эксплуатации. В программу введены спрямленные профили этих участков и соблюден скоростной режим. Число вагонов выбиралось в соответствии с конкретной ситуацией, удельное сопротивление движению согласно ПТ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учено, что отклонение расчетных значений потребления энергии от записей регистратора незначительно: на участке Москва – Рязань в пределах 6%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D:\Downloads\Bezymyanny.png"/>
          <p:cNvPicPr/>
          <p:nvPr/>
        </p:nvPicPr>
        <p:blipFill>
          <a:blip r:embed="rId1"/>
          <a:stretch/>
        </p:blipFill>
        <p:spPr>
          <a:xfrm>
            <a:off x="1214280" y="1211400"/>
            <a:ext cx="678672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" descr="УМ logo.gif"/>
          <p:cNvPicPr/>
          <p:nvPr/>
        </p:nvPicPr>
        <p:blipFill>
          <a:blip r:embed="rId2"/>
          <a:stretch/>
        </p:blipFill>
        <p:spPr>
          <a:xfrm>
            <a:off x="7093080" y="57240"/>
            <a:ext cx="2028600" cy="923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360" y="71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Компьютерная модель поезда в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ПК «Универсальный Механиз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mbria"/>
                <a:ea typeface="Times New Roman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1. Актуальность темы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2. Состояние вопр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3. Цель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4. Определение эксплуатационного КПД электров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5. Алгоритм регулирования мощности и числа тяговых двигателей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6. Компьютерная модель электровоза как управляемой  электромеханической системы. Компьютерная модель поез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7. Оценка сокращения энергопотребл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8. Дополнительные треб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9. Основные вывод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85840" y="435600"/>
            <a:ext cx="86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был сделан вывод об адекватности модели, и осуществлен переход ко второму этапу моделирования. Компьютерная модель электровоза была дополнена модулем, позволяющим регулировать число тяговых двигателей в зависимости от мгновенной реализуемой мощности согласно изложенному выше алгорит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проводился в соответствии со скоростным режимом действительной поездки электровоза ЭП20 по участку Москва – Рязань с 11 пассажирскими ваго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71720" y="2714760"/>
          <a:ext cx="7169040" cy="3182760"/>
        </p:xfrm>
        <a:graphic>
          <a:graphicData uri="http://schemas.openxmlformats.org/drawingml/2006/table">
            <a:tbl>
              <a:tblPr/>
              <a:tblGrid>
                <a:gridCol w="3227400"/>
                <a:gridCol w="1312560"/>
                <a:gridCol w="1314720"/>
                <a:gridCol w="1314360"/>
              </a:tblGrid>
              <a:tr h="1623960">
                <a:tc>
                  <a:txBody>
                    <a:bodyPr lIns="77760" rIns="77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сква – Ряз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гист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есть ТЭ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сква – Ряз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ч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есть ТЭ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сква – Ряз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ч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гулируемое число ТЭ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6400">
                <a:tc>
                  <a:txBody>
                    <a:bodyPr lIns="77760" rIns="77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ная энергия, потребленная из контактной сети, кВт·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8200">
                <a:tc>
                  <a:txBody>
                    <a:bodyPr lIns="77760" rIns="77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езная энергия на валах АТД, кВт·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77760" rIns="77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ПД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7760" rIns="77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7760" marR="77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8680"/>
            <a:ext cx="9144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Данные, полученные с помощью бортового регистратора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электровоза ЭП20 на участке Москва – Ряза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1"/>
          <a:srcRect l="10697" t="5894" r="8646" b="29855"/>
          <a:stretch/>
        </p:blipFill>
        <p:spPr>
          <a:xfrm>
            <a:off x="34920" y="765000"/>
            <a:ext cx="9037800" cy="3672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1510200" y="909720"/>
            <a:ext cx="164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дольный профиль, 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552320" y="2133720"/>
            <a:ext cx="107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ла тяги, к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 км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52520" y="3502080"/>
            <a:ext cx="193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ребленная энергия, кВт·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нергия на валах ТЭД, кВт·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234240" y="4437000"/>
            <a:ext cx="263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а участка Москва – Рязань, к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8532720" y="3262320"/>
            <a:ext cx="37620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8462520" y="357660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6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8462520" y="319392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144360" y="5084640"/>
            <a:ext cx="878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иаграммах показаны данные, полученные при поездке электровоза ЭП20-015 07.04.2014  по участку Москва – Рязань с 11 пассажирскими ваг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моделирование проводилось в соответствии со скоростным режимом этой поез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моделирования при всех шести работающих ТЭД совпадают с данными по энергетике, полученными из бортового регистратора электровоза, с точностью до 5…6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Результаты компьютерного моделирования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mbria"/>
                <a:ea typeface="Times New Roman"/>
              </a:rPr>
              <a:t>на участке Москва – Рязань при регулировании числа ТЭ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rcRect l="10763" t="6442" r="8750" b="8617"/>
          <a:stretch/>
        </p:blipFill>
        <p:spPr>
          <a:xfrm>
            <a:off x="34920" y="752400"/>
            <a:ext cx="9036000" cy="48657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510200" y="896760"/>
            <a:ext cx="164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дольный профиль, 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552320" y="2120760"/>
            <a:ext cx="107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ила тяги, к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орость, км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31280" y="4641840"/>
            <a:ext cx="380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ребленная энергия при работе всех ТЭД, кВт·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требленная энергия при регулировании числа ТЭД, кВт·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нергия на валах ТЭД, кВт·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3365280" y="5618160"/>
            <a:ext cx="263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а участка Москва – Рязань, к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1512000" y="3489480"/>
            <a:ext cx="207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ичество ТЭД в режиме тяг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9"/>
          <p:cNvSpPr/>
          <p:nvPr/>
        </p:nvSpPr>
        <p:spPr>
          <a:xfrm>
            <a:off x="8543880" y="4478400"/>
            <a:ext cx="376200" cy="13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8571960" y="495612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6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8535600" y="439092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8571960" y="4641840"/>
            <a:ext cx="46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08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395280" y="590544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, что регулирование числа ТЭД позволяет сократить расход электроэнергии на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%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отклонений от графика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3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7. Оценка сокращения энергопотребл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0" y="907920"/>
            <a:ext cx="903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«Методике расчета индикатора энергоэффективности электровоза», были взяты условные профили следующих типов: I-II тип, равнинный, с уклонами не более 6‰; III тип, холмистый, с уклонами до 9‰; IV тип, горный, с уклонами до 11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выполнено моделирование движения пассажирского поезда по этим участкам как при всех шести включенных ТЭД, так и при переменном числе работающих ТЭД. Число вагонов было принято равным 11 (зимнее расписание) и 17 (летнее расписа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Объект 7"/>
          <p:cNvGraphicFramePr/>
          <p:nvPr/>
        </p:nvGraphicFramePr>
        <p:xfrm>
          <a:off x="417600" y="3197160"/>
          <a:ext cx="81151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197160"/>
                    <a:ext cx="81151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Прямоугольник 1"/>
          <p:cNvSpPr/>
          <p:nvPr/>
        </p:nvSpPr>
        <p:spPr>
          <a:xfrm>
            <a:off x="900000" y="278136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 электроэнергии при движении по участку с условным профи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Объект 4"/>
          <p:cNvGraphicFramePr/>
          <p:nvPr/>
        </p:nvGraphicFramePr>
        <p:xfrm>
          <a:off x="179280" y="411120"/>
          <a:ext cx="8561520" cy="39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11120"/>
                    <a:ext cx="856152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Диаграмма 1" descr=""/>
          <p:cNvPicPr/>
          <p:nvPr/>
        </p:nvPicPr>
        <p:blipFill>
          <a:blip r:embed="rId3"/>
          <a:srcRect l="7359" t="13556" r="2701" b="4717"/>
          <a:stretch/>
        </p:blipFill>
        <p:spPr>
          <a:xfrm>
            <a:off x="2484360" y="4149720"/>
            <a:ext cx="4148280" cy="25923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1"/>
          <p:cNvSpPr/>
          <p:nvPr/>
        </p:nvSpPr>
        <p:spPr>
          <a:xfrm>
            <a:off x="988920" y="3811680"/>
            <a:ext cx="74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ая экономия электроэнергии при регулировании числа ТЭ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1116000" y="4428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онный КПД при движении по участку с условным профи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604880" y="1062000"/>
            <a:ext cx="6362640" cy="52862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"/>
          <p:cNvSpPr/>
          <p:nvPr/>
        </p:nvSpPr>
        <p:spPr>
          <a:xfrm>
            <a:off x="250920" y="11592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равке по расходу электроэнергии при подконтрольной эксплуатации электровоза ЭП20 с поездами «Невский Экспресс» за период 30.10 по 15.11.2015 г., говорится следу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9. Основные вы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 flipH="1">
            <a:off x="250200" y="796680"/>
            <a:ext cx="87850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анализа литературных источников сделан вывод о возможности повышения энергоэффективности многодвигательного тягового привода электровоза путем регулирования мощности и числа работающих тяговых двиг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а обработка записей бортового регистратора, что позволило установить зависимость показателей энергоэффективности электровоза от его скорости, профиля пути и составности поезда в различных условиях 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статистической обработки массивов записей бортового регистратора получена зависимость КПД электровоза от его мгновенной мощности. Построена аналитическая аппроксимация полученной зависим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алгоритм адаптивного автоматического управления энергетической эффективностью пассажирского электровоза с АТП при питании от сети постоянного тока. Алгоритм обеспечивает стабилизацию мгновенных значений КПД электровоза при работе с частичной нагрузкой на уровне его номинального значения, имеющего место при полной нагруз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а полноразмерная компьютерная модель электровоза как управляемой электромеханической системы, причем реализовано индивидуальное (поосное) регулирование силы тяги. Создана компьютерная модель пассажирского поезда, включающего электровоз и состав, позволяющая воспроизводить режим ведения поезда по конкретному участку и рассчитывать основные показатели энергопотреб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324000" y="860400"/>
            <a:ext cx="871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достоверности, выполнено сопоставление результатов, полученных путем компьютерного моделирования, с данными записей бортового регистратора на участке Москва – Рязань. Различие по энергопотреблению не превышает 6% (при всех работающих тяговых двигателях), что позволяет использовать результаты компьютерного моделирования для оценки энергопотребления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спользовании предлагаемого алгоритма управления энергоэффективностью электровоза путем регулирования мощности и числа тяговых двигателей, энергопотребление на участке Москва – Рязань может быть сокращено на 26% без отклонений от граф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о компьютерное моделирование движения пассажирского поезда по типовым участкам условных профилей длиной около 150 км, как при всех работающих тяговых двигателях, так и с использованием предлагаемого алгоритма управления энергоэффективностью путём регулирования мощности и числа тяговых двигателей. Получено, что для составов из 11 и 17 вагонов при движении со скоростью 72 км/ч экономия электроэнергии может составить 18…25%, при скорости 126 км/ч – 6…10%, на высокой скорости (180 км/ч) – в пределах 3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ованы дополнительные требования, которые должны быть соблюдены при использовании предлагаемого алгоритма управления энергетической эффективно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2812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mbria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6" descr="http://ic.pics.livejournal.com/wireless_sochi/39000194/241406/241406_original.jpg"/>
          <p:cNvPicPr/>
          <p:nvPr/>
        </p:nvPicPr>
        <p:blipFill>
          <a:blip r:embed="rId1"/>
          <a:srcRect l="0" t="621" r="2256" b="15015"/>
          <a:stretch/>
        </p:blipFill>
        <p:spPr>
          <a:xfrm>
            <a:off x="4680" y="6480"/>
            <a:ext cx="9147240" cy="5181480"/>
          </a:xfrm>
          <a:prstGeom prst="rect">
            <a:avLst/>
          </a:prstGeom>
          <a:ln w="0">
            <a:noFill/>
          </a:ln>
        </p:spPr>
      </p:pic>
      <p:sp>
        <p:nvSpPr>
          <p:cNvPr id="148" name="Заголовок 1"/>
          <p:cNvSpPr/>
          <p:nvPr/>
        </p:nvSpPr>
        <p:spPr>
          <a:xfrm>
            <a:off x="0" y="5918040"/>
            <a:ext cx="915192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рифьян Александр Александ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+7-904-34-79-4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zar.plgrph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41200" y="1072800"/>
            <a:ext cx="8578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о «Стратегией развития холдинга "РЖД" до 2030 года», опубликованной 16.04.2014 г., и «Энергетической стратегией ОАО "РЖД" на период до 2010 года и на перспективу до 2030 года» (№ 269 р от 11.02.2008), предусматривается последовательное снижение удельного расхода электроэнергии на тягу поездов: к 2030 году он должен составить  94,1%, если уровень 2012 года принять за 10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ая задача носит системный характер и требует для своего решения принятия целого комплекса мер. Прежде всего, признана необходимость переходить к производству электровозов нового поколения, имеющих более высокое значение КПД в номинальном режиме. Такой переход предусмотрен документом «Типы и основные параметры локомотивов» (№ 747р от 27.11.2002 г.), во исполнение которого промышленностью начат выпуск пассажирских и грузовых электровозов с асинхронным тяговым приводом (АТП). В настоящее время идет накопление опыта их эксплуа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1f497d"/>
                </a:solidFill>
                <a:latin typeface="Cambria"/>
                <a:ea typeface="Times New Roman"/>
              </a:rPr>
              <a:t>Актуальность темы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41200" y="790200"/>
            <a:ext cx="4259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стоящему времени на путях ОАО «РЖД» работает более пятидесяти пассажирских электровозов двойного питания серии ЭП20 «Олимп», оснащенных асинхронным тяговым приводом. Особенности конструкции этого электровоза обеспечивают экономический и технологический эффект, достигаемый за счёт увеличения полигонов обращения и снижения потребного парка электровозов на маршру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на участке Москва – Адлер две пары поездов сегодня обслуживается восемью электровозами ЭП20. При ранее существовавшей схеме тягового обслуживания на два указанных поезда требовалось 18 локомотивов ЧС2К (ЧС7), ЭП1М и 2ЭС4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4484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395280" y="127440"/>
            <a:ext cx="8362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анализ эксплуатационных показателей энергетической эффективности пассажирских электровозов с АТП в реальных режимах движения показывает, что они в ряде случаев не находятся на долж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на равнинном участке Москва – Рязань, где средняя скорость движения составляет около 70 км/ч, наблюдается повышенный расход электроэнергии (здесь применяются электровозы ЭП20 с конструкционной скоростью 160 км/ч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луатационное значение КПД в режиме тяги в одной из поездок – 0.65, коэффициент использования мощности –  0.1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530280" y="2997360"/>
            <a:ext cx="8362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831960" y="3849480"/>
            <a:ext cx="777708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как показывает опыт эксплуатации пассажирских электровозов с АТП, работающих на железных дорогах, и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 мощность используется полностью далеко не всег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чина заключается в том, что такие электровозы ведут поезда без смены локомотива на всем протяжении маршрута (например, 1760 км для линии Москва – Адлер), который проходит по территориям с самым разнообразным рельефом местности и состоянием пути. Как следствие, показатели энергоэффективности за весь маршрут далеки от оптималь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лее сформулированы предложения по повышению энергетической эффективности современных пассажирских электровозов, основанные главным образом на изменении алгоритмов управления тяговым приво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49636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  <a:ea typeface="Times New Roman"/>
              </a:rPr>
              <a:t>Потребление энергии электровозом ЭП20 на участках постоянного т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28680" y="765000"/>
          <a:ext cx="6983280" cy="2808360"/>
        </p:xfrm>
        <a:graphic>
          <a:graphicData uri="http://schemas.openxmlformats.org/drawingml/2006/table">
            <a:tbl>
              <a:tblPr/>
              <a:tblGrid>
                <a:gridCol w="3675240"/>
                <a:gridCol w="1046160"/>
                <a:gridCol w="1174680"/>
                <a:gridCol w="1087200"/>
              </a:tblGrid>
              <a:tr h="608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ас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б –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апсе –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лю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 – Ряза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ия, потребленная из контактной сети, кВт·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6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о возможная энергия, потребленная из контактной сети (исходя из часовой мощности 7200 кВт), кВт·ч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Д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392040" y="993960"/>
            <a:ext cx="856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недоиспользования доступной мощности локомотива при легком профиле пути и небольшой скорости движения, для неполновесных и порожних составов, неоднократно поднималась в связи с грузовыми перевозками. Многие участки железных дорог характеризуются неравномерностью грузопотоков в четном и нечетном направлениях, особенно в местах зарождения грузов с энергетическим, рудным и т.п. сырь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лось, что лишь 5% продолжительности тягового режима реализуется с мощностью, близкой к номинальной. Таким образом, все возрастающая мощность многосекционных локомотивов усиливает проблему ее полной реализации в эксплуатации, а следовательно, и проблему повышения эксплуатационного КПД электрической тя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установлено, что одним из способов повышения энергетической эффективности является частичное отключение тяговых тележек (или секций) электровоза в периоды работы с явным недоиспользованием его силы тяги и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отключения части тяговых двигателей нашла свое воплощение в системе оптимального регулирования мощности локомотива (ОРМЛ). Посекционное регулирование применялось на электровозах ВЛ80С. Мощность регулировалась за счет ручного отключения/включения тяговых двигателей по групп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mbria"/>
                <a:ea typeface="Times New Roman"/>
              </a:rPr>
              <a:t>2. Состояние во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426960" y="137880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работы является создание методов адаптивного автоматического управления энергетической эффективностью пассажирского электровоза с асинхронным тяговым приводом при питании от сети постоянного тока. Разработанные алгоритмы должны обеспечить стабилизацию мгновенных значений коэффициента полезного действия при работе с частичной нагрузкой на уровне его номинального значения. В результате будет достигнуто повышение энергетической эффективности локомотивной тя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mbria"/>
                <a:ea typeface="Times New Roman"/>
              </a:rPr>
              <a:t>3. Цель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mbria"/>
                <a:ea typeface="Times New Roman"/>
              </a:rPr>
              <a:t>КПД электровоза в номинальном режи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6" descr=""/>
          <p:cNvPicPr/>
          <p:nvPr/>
        </p:nvPicPr>
        <p:blipFill>
          <a:blip r:embed="rId1"/>
          <a:stretch/>
        </p:blipFill>
        <p:spPr>
          <a:xfrm>
            <a:off x="3635280" y="714240"/>
            <a:ext cx="5407200" cy="57308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4"/>
          <p:cNvSpPr/>
          <p:nvPr/>
        </p:nvSpPr>
        <p:spPr>
          <a:xfrm>
            <a:off x="360360" y="114300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нимания полученных результатов, выразим КПД электровоза в номинальном режиме эксплуа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"/>
          <p:cNvPicPr/>
          <p:nvPr/>
        </p:nvPicPr>
        <p:blipFill>
          <a:blip r:embed="rId2"/>
          <a:stretch/>
        </p:blipFill>
        <p:spPr>
          <a:xfrm>
            <a:off x="574560" y="2571840"/>
            <a:ext cx="30686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0:36:42Z</dcterms:created>
  <dc:creator>zar</dc:creator>
  <dc:description/>
  <dc:language>en-US</dc:language>
  <cp:lastModifiedBy>Зарифьян Александр Александрович</cp:lastModifiedBy>
  <dcterms:modified xsi:type="dcterms:W3CDTF">2016-04-05T20:31:16Z</dcterms:modified>
  <cp:revision>235</cp:revision>
  <dc:subject/>
  <dc:title>ОСОБЕННОСТИ СХЕМ ВСПОМОГАТЕЛЬНОГО ПРИВОДА  СОВРЕМЕННЫХ ЛОКОМОТИВОВ С АСИНХРОННЫМИ ТЯГОВЫМИ ДВИГАТЕЛЯМИ</dc:title>
</cp:coreProperties>
</file>