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B24-7966-432E-A93F-3FCB2561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D2C-C80E-4774-A6CD-9EAB3E1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9A4-7C06-4BE4-A578-4E4F0F30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854-712B-44B7-8ACC-511B5374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4FD-1564-4A9C-B59A-16FD432C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985-D6A2-4267-8ACC-029D3E9A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540-AA3C-4905-8F6B-98DED69B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F57-DCBC-440B-BEF3-21090EC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5F8-4140-484F-A106-CB55908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4FF-DAA9-4882-9E7D-8E770A75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C52-27AC-4D9F-8BFC-098386D3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bb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BF3-5D9A-4245-BB6A-20EA3B5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2209680" indent="-3808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2209680" indent="-3808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2209680" indent="-3808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5FD4-867F-456C-B621-278C1A4AA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7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41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14" descr="M:\Информация\Фотографии\Продукция\81-770\P1090081.JPG"/>
          <p:cNvPicPr/>
          <p:nvPr/>
        </p:nvPicPr>
        <p:blipFill>
          <a:blip r:embed="rId3"/>
          <a:stretch/>
        </p:blipFill>
        <p:spPr>
          <a:xfrm>
            <a:off x="1461960" y="2368440"/>
            <a:ext cx="6759720" cy="3803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692280" y="113832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Microsoft YaHei"/>
              </a:rPr>
              <a:t>Исследование динамических характеристик вагона дизель-поезда в программном комплексе «Универсальный механиз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Microsoft YaHei"/>
              </a:rPr>
              <a:t>с использованием конечно-элементной модели ку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11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7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птимизация и верификация модели с 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3"/>
          <a:stretch/>
        </p:blipFill>
        <p:spPr>
          <a:xfrm>
            <a:off x="917640" y="1585800"/>
            <a:ext cx="7818480" cy="3970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754200" y="5448240"/>
            <a:ext cx="81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пектральная плотность мощности вертикальных ускор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 точках 1, 3 и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18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7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птимизация и верификация модели с 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6" descr=""/>
          <p:cNvPicPr/>
          <p:nvPr/>
        </p:nvPicPr>
        <p:blipFill>
          <a:blip r:embed="rId3"/>
          <a:stretch/>
        </p:blipFill>
        <p:spPr>
          <a:xfrm>
            <a:off x="2000160" y="1566720"/>
            <a:ext cx="5673960" cy="2241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8" descr=""/>
          <p:cNvPicPr/>
          <p:nvPr/>
        </p:nvPicPr>
        <p:blipFill>
          <a:blip r:embed="rId4"/>
          <a:stretch/>
        </p:blipFill>
        <p:spPr>
          <a:xfrm>
            <a:off x="2000160" y="3693960"/>
            <a:ext cx="5673960" cy="1940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2800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754200" y="563400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згибная форма колебаний 8,2 Г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28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7"/>
          <p:cNvSpPr/>
          <p:nvPr/>
        </p:nvSpPr>
        <p:spPr>
          <a:xfrm>
            <a:off x="754200" y="1069920"/>
            <a:ext cx="81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редложение по изменению конструкции кузова для 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динамических характеристик экип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2800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754200" y="563400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Кузов с усиленными поперечными балками в цен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46120" y="1974960"/>
            <a:ext cx="85615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37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"/>
          <p:cNvSpPr/>
          <p:nvPr/>
        </p:nvSpPr>
        <p:spPr>
          <a:xfrm>
            <a:off x="754200" y="1069920"/>
            <a:ext cx="81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редложение по изменению конструкции кузова для 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динамических характеристик экип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2800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25760" y="2424240"/>
          <a:ext cx="6402240" cy="2208240"/>
        </p:xfrm>
        <a:graphic>
          <a:graphicData uri="http://schemas.openxmlformats.org/drawingml/2006/table">
            <a:tbl>
              <a:tblPr/>
              <a:tblGrid>
                <a:gridCol w="1022040"/>
                <a:gridCol w="1538280"/>
                <a:gridCol w="1543320"/>
                <a:gridCol w="1017360"/>
                <a:gridCol w="1281240"/>
              </a:tblGrid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езультатам испыт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вердотельная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ь с упругим кузо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ь с упругим кузовом с усиленными бал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 тележ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центре к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45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7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2800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844200" y="2147760"/>
            <a:ext cx="8276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и проектировании длиннобазных вагонов целесообразно учиты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пругость кузова, т.к. в противном случае не обеспечивается достато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остоверность результатов модел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ля снижения ускорений в центре кузова длиннобазного вагона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величить жесткость кузова за счет усиления поперечных балок рамы куз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47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2"/>
          <p:cNvSpPr/>
          <p:nvPr/>
        </p:nvSpPr>
        <p:spPr>
          <a:xfrm>
            <a:off x="600120" y="115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Microsoft YaHei"/>
              </a:rPr>
              <a:t>Этап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801080" y="2481120"/>
            <a:ext cx="5740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динамической модели вагона с неупругим кузо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здание конечно-элементной модели вагона в П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Y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ация и верификация модели с упругим кузо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Предложение по изменению конструкции кузова для улуч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мических характеристик экипа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53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2"/>
          <p:cNvSpPr/>
          <p:nvPr/>
        </p:nvSpPr>
        <p:spPr>
          <a:xfrm>
            <a:off x="824040" y="103968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оздание динамической модели вагона с не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1366920" y="1598760"/>
            <a:ext cx="7059600" cy="440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835200" y="6008760"/>
            <a:ext cx="8143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бщий вид теле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5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60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2"/>
          <p:cNvSpPr/>
          <p:nvPr/>
        </p:nvSpPr>
        <p:spPr>
          <a:xfrm>
            <a:off x="824040" y="103968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оздание динамической модели вагона с не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824040" y="600876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Модель тележки в ПК 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365120" y="1536840"/>
            <a:ext cx="70628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67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-2423160" y="3616560"/>
            <a:ext cx="26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Элементы рессорного подвешивания, используемые в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932480" y="2036880"/>
            <a:ext cx="606960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жины и пневморессоры моделируются линейными си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РМШ моделируются сайлент-бло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рсион моделируется двумя твердыми телами, представляю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ой половины торсиона, связанные между собой сайлент-бло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щим жесткость на скручи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Гасители колебаний моделируются биполярными си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2"/>
          <p:cNvCxnSpPr/>
          <p:nvPr/>
        </p:nvCxnSpPr>
        <p:spPr>
          <a:xfrm>
            <a:off x="2717640" y="5468400"/>
            <a:ext cx="2324880" cy="2977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76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9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оздание конечно-элементной модели вагона в ПК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AN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"/>
          <p:cNvPicPr/>
          <p:nvPr/>
        </p:nvPicPr>
        <p:blipFill>
          <a:blip r:embed="rId3"/>
          <a:stretch/>
        </p:blipFill>
        <p:spPr>
          <a:xfrm>
            <a:off x="2013120" y="1566720"/>
            <a:ext cx="5991120" cy="4410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1"/>
          <p:cNvSpPr/>
          <p:nvPr/>
        </p:nvSpPr>
        <p:spPr>
          <a:xfrm>
            <a:off x="824040" y="597708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Модель кузова в ПК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AN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83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9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птимизация и верификация модели с 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431000" y="1687680"/>
            <a:ext cx="679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имитации болтовых соединений траверс тележек с кузовом использу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ктивные сайлент-бло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стью поряд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8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/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1392120" y="2581200"/>
            <a:ext cx="7096320" cy="3481560"/>
          </a:xfrm>
          <a:prstGeom prst="rect">
            <a:avLst/>
          </a:prstGeom>
          <a:ln w="0">
            <a:noFill/>
          </a:ln>
        </p:spPr>
      </p:pic>
      <p:cxnSp>
        <p:nvCxnSpPr>
          <p:cNvPr id="89" name="Прямая со стрелкой 2"/>
          <p:cNvCxnSpPr/>
          <p:nvPr/>
        </p:nvCxnSpPr>
        <p:spPr>
          <a:xfrm flipH="1">
            <a:off x="753840" y="4384440"/>
            <a:ext cx="1775520" cy="12992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0" name="Прямая со стрелкой 4"/>
          <p:cNvCxnSpPr/>
          <p:nvPr/>
        </p:nvCxnSpPr>
        <p:spPr>
          <a:xfrm>
            <a:off x="949320" y="561492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1" name="Прямая со стрелкой 6"/>
          <p:cNvCxnSpPr/>
          <p:nvPr/>
        </p:nvCxnSpPr>
        <p:spPr>
          <a:xfrm>
            <a:off x="1255680" y="561492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1154160" y="552924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94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9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птимизация и верификация модели с 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07720" y="2036880"/>
            <a:ext cx="77112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коэффициенте внутреннего демпфирования упругого кузова, равном 0,1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алось добиться показателей плавности хода модели, близких к получен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испытаниях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тслеживались ускорения на контрольных точках на полу кузова (см. рисуно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3"/>
          <a:stretch/>
        </p:blipFill>
        <p:spPr>
          <a:xfrm>
            <a:off x="1413000" y="3943440"/>
            <a:ext cx="7181640" cy="1514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3"/>
          <p:cNvSpPr/>
          <p:nvPr/>
        </p:nvSpPr>
        <p:spPr>
          <a:xfrm>
            <a:off x="777960" y="555768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Контрольные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6342120" y="660240"/>
            <a:ext cx="2401920" cy="276480"/>
            <a:chOff x="6342120" y="660240"/>
            <a:chExt cx="2401920" cy="276480"/>
          </a:xfrm>
        </p:grpSpPr>
        <p:graphicFrame>
          <p:nvGraphicFramePr>
            <p:cNvPr id="102" name="Object 96"/>
            <p:cNvGraphicFramePr/>
            <p:nvPr/>
          </p:nvGraphicFramePr>
          <p:xfrm>
            <a:off x="6342120" y="660240"/>
            <a:ext cx="7700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2120" y="660240"/>
                      <a:ext cx="7700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Rectangle 97"/>
            <p:cNvSpPr/>
            <p:nvPr/>
          </p:nvSpPr>
          <p:spPr>
            <a:xfrm>
              <a:off x="7264440" y="693720"/>
              <a:ext cx="14796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30000">
                  <a:solidFill>
                    <a:srgbClr val="ff0000"/>
                  </a:solidFill>
                  <a:latin typeface="Arial"/>
                </a:rPr>
                <a:t>МЕТРОВАГОНМА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735200" y="2062080"/>
          <a:ext cx="6451560" cy="2011320"/>
        </p:xfrm>
        <a:graphic>
          <a:graphicData uri="http://schemas.openxmlformats.org/drawingml/2006/table">
            <a:tbl>
              <a:tblPr/>
              <a:tblGrid>
                <a:gridCol w="1238040"/>
                <a:gridCol w="1325880"/>
                <a:gridCol w="947520"/>
                <a:gridCol w="798480"/>
                <a:gridCol w="811440"/>
                <a:gridCol w="1330200"/>
              </a:tblGrid>
              <a:tr h="78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а контрольных точ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езультатам модел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, м/с</a:t>
                      </a:r>
                      <a:r>
                        <a:rPr b="1" lang="ru-RU" sz="11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м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</a:t>
                      </a:r>
                      <a:r>
                        <a:rPr b="1" lang="en-US" sz="11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,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/с</a:t>
                      </a:r>
                      <a:r>
                        <a:rPr b="1" lang="ru-RU" sz="11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1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результатам испыт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4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7"/>
          <p:cNvSpPr/>
          <p:nvPr/>
        </p:nvSpPr>
        <p:spPr>
          <a:xfrm>
            <a:off x="754200" y="1069920"/>
            <a:ext cx="814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Оптимизация и верификация модели с упругим куз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204920" y="1646280"/>
            <a:ext cx="72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. Показатели плавности хода в контрольных точ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1301760" y="4181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2. Перемещения в контрольных точ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06840" y="4586400"/>
          <a:ext cx="4557600" cy="1527120"/>
        </p:xfrm>
        <a:graphic>
          <a:graphicData uri="http://schemas.openxmlformats.org/drawingml/2006/table">
            <a:tbl>
              <a:tblPr/>
              <a:tblGrid>
                <a:gridCol w="1336680"/>
                <a:gridCol w="1701720"/>
                <a:gridCol w="1519200"/>
              </a:tblGrid>
              <a:tr h="75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а 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ых точ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ах колебаний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1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7:45:14Z</dcterms:created>
  <dc:creator>Anna Nechaeva</dc:creator>
  <dc:description/>
  <dc:language>en-US</dc:language>
  <cp:lastModifiedBy>Лютак Роман Дмитриевич</cp:lastModifiedBy>
  <dcterms:modified xsi:type="dcterms:W3CDTF">2016-04-04T13:58:54Z</dcterms:modified>
  <cp:revision>402</cp:revision>
  <dc:subject/>
  <dc:title>Слайд 1</dc:title>
</cp:coreProperties>
</file>