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DC87-9AD8-4019-9BAB-B81A4818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8ED2-07A3-4B8D-9D30-C4769164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67EA0-9C1E-4B8B-9ECD-3BB22747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07550-F74A-4267-AB65-2CFB56D0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7194-8F83-43D2-ACE8-9ADAB034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83F3-44D0-41A8-A7C2-8DA425C6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50D7-A3E4-4058-B96D-97C4AFCC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4099-7643-4513-827C-847799D8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57EA-6947-45F3-9E40-62D0B233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282A-C693-4B10-92CE-D366DC86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0589-9922-41B1-B4CA-8AD3361A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A39FB-3183-437D-8D00-E9667ABB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E8B8-F52D-497E-A88F-46695C44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C874-D9E9-4E18-8AE6-C9E72719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ADC8-8A66-4376-A86D-07372D0C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1377-8251-4091-8BDB-41EFE0D5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EA73-689B-48CD-97D3-7A2CC1BF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F48F-05DE-4D92-8F5E-D5D77217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1BD2-B33D-46B1-B553-6BF21EF5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A71F-1413-4CE9-BB16-7A6210D5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810F-D245-416C-9905-FCC1A277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E46E-44CA-42F4-B0FA-7AC40CF2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532F0-C997-4E81-A768-FCFBA994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CA9C-5FBC-4B85-8D0A-BAB095AF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4E3F-6FD8-4516-9D8C-4F660500AF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8EBF-08E3-454E-B777-E4B25DC40C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ерство образования и науки РФ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ГБОУ ВПО «Брянский государственный технический университ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1197000"/>
            <a:ext cx="48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арасов А.Н.,Ковалев Р.В., Федяева Г.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1989000"/>
            <a:ext cx="691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ДЕЛИРОВАНИЕ ДИНАМ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МЕХАНИЧЕСКОЙ СИСТЕМ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НЕВРОВОГО ТЕПЛОВОЗА ТЭМ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22360" y="635328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рянск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668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789120" y="576360"/>
            <a:ext cx="77882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ультаты моделирования поочередного наезда колес первой и второй оси тележки ТЭМ9Н на масляное пятно длиной 2,5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6039720"/>
            <a:ext cx="75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д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  Мд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лектромагнитные моменты двигателей первой и второй оси тележки соответственн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з – задание на электромагнитный момент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_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_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орости колес первой и второй оси теле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19280" y="3591000"/>
            <a:ext cx="5933880" cy="2143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22520" y="1359000"/>
            <a:ext cx="5829120" cy="2286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20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00" y="203724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65040" y="549360"/>
            <a:ext cx="70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дель тепловоза ТЭМ9Н в ПК «Универсальный механиз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276120" y="10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2" descr=""/>
          <p:cNvPicPr/>
          <p:nvPr/>
        </p:nvPicPr>
        <p:blipFill>
          <a:blip r:embed="rId1"/>
          <a:stretch/>
        </p:blipFill>
        <p:spPr>
          <a:xfrm>
            <a:off x="971640" y="976320"/>
            <a:ext cx="7632720" cy="53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549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ь тепловоза ТЭМ9Н в ви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/Simu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276120" y="10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" descr=""/>
          <p:cNvPicPr/>
          <p:nvPr/>
        </p:nvPicPr>
        <p:blipFill>
          <a:blip r:embed="rId1"/>
          <a:stretch/>
        </p:blipFill>
        <p:spPr>
          <a:xfrm>
            <a:off x="6480" y="1170000"/>
            <a:ext cx="9144000" cy="53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68360" y="549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76120" y="10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1046880"/>
            <a:ext cx="8496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единить модель системы управления с моделью механической подсистемы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Lab/Simulink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Исследовать на основе моделирования динамические процессы  в электрической и механической подсистемах при различных алгоритмах упр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Наметить пути совершенствования системы управления и механическ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35280" y="412920"/>
            <a:ext cx="57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уктурная схема ТЭП четырехосного гибридного тепловозаТЭМ9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1171440"/>
            <a:ext cx="6553080" cy="51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35280" y="412920"/>
            <a:ext cx="57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 возможностях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7440" y="1985760"/>
            <a:ext cx="867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истом задаётся  сила  тяги.  Плав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ая  ручка  контроллера задаёт  скорость, с которой желает  ехать машинист. Отойти от  традиции регулировать ступенчато (позиционно)  мощность  позволяет, прежде всего, батарея с огромным энергозапасом (300 кВт*часов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я  её,  мы  можем  очень  вяло  грузить дизель при изменении мощности на тягу  и  удерживать  его  в  "ложбинке"  кривой BSFC. Поэтому  у  нас нет  необходимости поддерживать  мощность дизеля  постоянной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 мы  можем  реализовать  мечту  - регулировать  силу  тяги,  а  не  поддерживать произведение  силы  тяги  на  скорость  const в соответствии с позицией контролле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76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четная схема и математическая модель механической части ТЭП оси ТЭМ9Н с упругим зубчатым колесом реду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6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200" y="5107680"/>
            <a:ext cx="4588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счетная схема механической подсистемы  ТЭП оси  тепловоза ТЭМ9Н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– ротор двигателя; 2 – корпус двигателя; 3 – шестерня и венец зубчат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леса редуктора; 4 – колесная пара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– локомотив и поезд; 6 – рельсовый пу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320" y="1268280"/>
            <a:ext cx="4676760" cy="3889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7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730760" y="1260360"/>
                <a:ext cx="4305240" cy="533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μ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шк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ω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шк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шк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шк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к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шк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μω</m:t>
                                    </m:r>
                                  </m:e>
                                  <m:sub>
                                    <m:r>
                                      <m:t xml:space="preserve">к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шк</m:t>
                                </m:r>
                              </m:sub>
                            </m:sSub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μ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шк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1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2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л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л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μω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шк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шк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к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шк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μω</m:t>
                                    </m:r>
                                  </m:e>
                                  <m:sub>
                                    <m:r>
                                      <m:t xml:space="preserve">к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76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чет коэффициента сце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7360" y="981000"/>
            <a:ext cx="4184640" cy="2170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70280" y="4079880"/>
            <a:ext cx="439272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участок упругого  пропорционального проскальзы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575160"/>
            <a:ext cx="820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стика в соответствии с методикой Меншутина и Минова аппроксимируется тремя участк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21120" y="1052640"/>
            <a:ext cx="3495960" cy="2112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12680" y="4140360"/>
                <a:ext cx="9622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ξ</m:t>
                        </m:r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173400" y="4111560"/>
                <a:ext cx="11430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9,61178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ξ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468360" y="4108320"/>
            <a:ext cx="503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3284640"/>
            <a:ext cx="3457440" cy="22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арактеристика сцепления колеса и рельс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513320"/>
            <a:ext cx="503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97480" y="4482360"/>
            <a:ext cx="15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0014 &lt;|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| ≤ 0,0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154320" y="4432320"/>
                <a:ext cx="1228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ξ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ξ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970520" y="4497480"/>
            <a:ext cx="3154320" cy="22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участок упругого  пропорциона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960" y="4871880"/>
            <a:ext cx="503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102120" y="4869000"/>
                <a:ext cx="1857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χ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л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ξ</m:t>
                            </m:r>
                          </m:e>
                        </m:d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983520" y="49251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,0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5013360"/>
            <a:ext cx="3995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участок избыточного скольжения (буксования, юз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263600" y="5800680"/>
            <a:ext cx="6004080" cy="725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547640" y="5445000"/>
            <a:ext cx="61930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висимость жесткости падающего участка от скорости локомотива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476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чет сил тяги кол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3640" y="1586520"/>
            <a:ext cx="669600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исимость коэффициента сцепления ψ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от скорости локомоти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59120" y="2205000"/>
          <a:ext cx="5781600" cy="549360"/>
        </p:xfrm>
        <a:graphic>
          <a:graphicData uri="http://schemas.openxmlformats.org/drawingml/2006/table">
            <a:tbl>
              <a:tblPr/>
              <a:tblGrid>
                <a:gridCol w="844560"/>
                <a:gridCol w="990720"/>
                <a:gridCol w="809640"/>
                <a:gridCol w="539640"/>
                <a:gridCol w="539640"/>
                <a:gridCol w="451080"/>
                <a:gridCol w="539640"/>
                <a:gridCol w="450720"/>
                <a:gridCol w="615960"/>
              </a:tblGrid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к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…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ψ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…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…0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57680" y="981000"/>
                <a:ext cx="14619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48360" y="2781360"/>
            <a:ext cx="2230200" cy="1216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835280" y="2781360"/>
            <a:ext cx="2160360" cy="1225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411280" y="4005360"/>
            <a:ext cx="4753080" cy="26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-162072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4280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ункциональная схема системы управления двумя АТД, подключенными параллельно к одному А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207504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6040" y="1149480"/>
            <a:ext cx="893304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-162072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04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омеханическая модель ТЭП тепловоза ТЭМ9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сновной библиотек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Lab/Simu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207504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703600" y="1166760"/>
            <a:ext cx="4336920" cy="56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-162072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04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 моделирования разгона ТЭМ9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сновной библиотек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Lab/Simu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207504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72360" y="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90560" y="1052640"/>
            <a:ext cx="5762880" cy="3024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692360" y="3979800"/>
            <a:ext cx="5762520" cy="2849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524720" y="1844640"/>
            <a:ext cx="15462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менты АТД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АТД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24720" y="4724280"/>
            <a:ext cx="15462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эффициент сцепления колеса 1-й о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3:14:15Z</dcterms:created>
  <dc:creator>Goriander</dc:creator>
  <dc:description/>
  <dc:language>en-US</dc:language>
  <cp:lastModifiedBy>Customer</cp:lastModifiedBy>
  <dcterms:modified xsi:type="dcterms:W3CDTF">2014-04-10T07:23:16Z</dcterms:modified>
  <cp:revision>114</cp:revision>
  <dc:subject/>
  <dc:title>Министерство образования и науки РФ Брянский государственный технический университет</dc:title>
</cp:coreProperties>
</file>