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7.jpeg" ContentType="image/jpeg"/>
  <Override PartName="/ppt/media/image31.wmf" ContentType="image/x-wmf"/>
  <Override PartName="/ppt/media/image9.png" ContentType="image/png"/>
  <Override PartName="/ppt/media/image30.wmf" ContentType="image/x-wmf"/>
  <Override PartName="/ppt/media/image18.png" ContentType="image/png"/>
  <Override PartName="/ppt/media/image6.jpeg" ContentType="image/jpeg"/>
  <Override PartName="/ppt/media/image28.wmf" ContentType="image/x-wmf"/>
  <Override PartName="/ppt/media/image32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11.jpeg" ContentType="image/jpeg"/>
  <Override PartName="/ppt/media/image36.wmf" ContentType="image/x-wmf"/>
  <Override PartName="/ppt/media/image16.png" ContentType="image/png"/>
  <Override PartName="/ppt/media/image5.jpeg" ContentType="image/jpeg"/>
  <Override PartName="/ppt/media/image8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5.wmf" ContentType="image/x-wmf"/>
  <Override PartName="/ppt/media/image10.png" ContentType="image/png"/>
  <Override PartName="/ppt/media/image1.jpeg" ContentType="image/jpeg"/>
  <Override PartName="/ppt/media/image17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6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3076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260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f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3076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51E7-19F4-4A81-92D8-B81A269BB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ажаемые коллеги! Эта презентация посвящена решению задач динамики железнодорожного транспорта в программном комплексе (ПК) «Универсальный механизм». В презентации приведены примеры моделей железнодорожных экипажей, дан краткий обзор возможностей программы для моделирования динамики железнодорожных экипажей. Программа разработана в лаборатории вычислительной механики Брянского государственного технического университета. Руководитель Лаборатории – проф., д.ф.-м.н. Погорелов Дмитрий Юрьевич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3076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2440-750F-4FFE-B295-5CD62AF56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м слайде представлена модель самой распространенной грузовой тележ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силовые элементы использованы для моделирования связей Ленора, связей в центральной опоре кузова на тележку, взаимодействия скользунов тележки с кузовом, взаимодействия толкателя с держателем пружин и буксой, а также буксы с направляющими рамы, что позволило учесть особенности работы этих эле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м слайде представлена модель самой распространенной грузовой тележ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силовые элементы использованы для моделирования связей Ленора, связей в центральной опоре кузова на тележку, взаимодействия скользунов тележки с кузовом, взаимодействия толкателя с держателем пружин и буксой, а также буксы с направляющими рамы, что позволило учесть особенности работы этих эле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гон метро модели 81-760 производства ОАО «Метровагомаш», г. Мытищи, 2008 г. Для более точного определения различных динамических величин, в том числе, например, плавности хода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я кузов представле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угим телом, т.е. в данном случае модель является гибридной. Модель упругого кузова импортирована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YS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ты, соответствующие низшим собственным формам колебаний, для длиннобазных экипажей, таких как пассажирские вагоны и вагоны метро, длиннобазные платформы для контейнерных перевозок, как правило сопоставимы с нижними собственными формами колебаний кузова на подвеске. Для таких железнодорожных экипажей рекомендуется рассматривать кузов/платформу как упругое те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ь численного моделирования подобных систем связана с тем, что для создания адекватной математической модели трехэлементной тележки необходимо введение в модель большого количества контактных взаимодействий с трением. Это взаимодействие между колесными парами и боковыми рамами в буксовых узлах, в системе клинового гашения между клиновыми гасителями, боковыми рамами и надрессорной балкой, в пятнике между надрессорной балкой и кузовом ваго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6280" y="-283320"/>
            <a:ext cx="833436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6280" y="-283320"/>
            <a:ext cx="833436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6280" y="-283320"/>
            <a:ext cx="833436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280" y="-283320"/>
            <a:ext cx="833436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280" y="-283320"/>
            <a:ext cx="833436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6280" y="-283320"/>
            <a:ext cx="833436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280" y="-283320"/>
            <a:ext cx="833436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f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6280" y="162000"/>
            <a:ext cx="8334360" cy="10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6280" y="-283320"/>
            <a:ext cx="833436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6280" y="-283320"/>
            <a:ext cx="833436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6280" y="-283320"/>
            <a:ext cx="833436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mlab.ru/" TargetMode="External"/><Relationship Id="rId3" Type="http://schemas.openxmlformats.org/officeDocument/2006/relationships/hyperlink" Target="mailto:um@umlab.ru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6280" y="162000"/>
            <a:ext cx="8334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f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81080" y="281160"/>
            <a:ext cx="226800" cy="311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9"/>
          <p:cNvSpPr/>
          <p:nvPr/>
        </p:nvSpPr>
        <p:spPr>
          <a:xfrm>
            <a:off x="112680" y="406440"/>
            <a:ext cx="8742240" cy="0"/>
          </a:xfrm>
          <a:prstGeom prst="line">
            <a:avLst/>
          </a:prstGeom>
          <a:ln w="19080">
            <a:solidFill>
              <a:srgbClr val="073f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0"/>
          <p:cNvSpPr/>
          <p:nvPr/>
        </p:nvSpPr>
        <p:spPr>
          <a:xfrm>
            <a:off x="312840" y="125280"/>
            <a:ext cx="0" cy="525600"/>
          </a:xfrm>
          <a:prstGeom prst="line">
            <a:avLst/>
          </a:prstGeom>
          <a:ln w="19080">
            <a:solidFill>
              <a:srgbClr val="073f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165240" y="6524640"/>
            <a:ext cx="5295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863640"/>
                <a:tab algn="l" pos="17287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www.umlab.ru</a:t>
            </a:r>
            <a:r>
              <a:rPr b="0" lang="en-US" sz="2000" spc="-1" strike="noStrike">
                <a:solidFill>
                  <a:srgbClr val="073f89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um@umlab.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863640"/>
                <a:tab algn="l" pos="17287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0840" y="6481800"/>
            <a:ext cx="7853400" cy="47520"/>
          </a:xfrm>
          <a:prstGeom prst="line">
            <a:avLst/>
          </a:prstGeom>
          <a:ln w="19080">
            <a:solidFill>
              <a:srgbClr val="073f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Рисунок 4" descr="umid.jpg"/>
          <p:cNvPicPr/>
          <p:nvPr/>
        </p:nvPicPr>
        <p:blipFill>
          <a:blip r:embed="rId4"/>
          <a:stretch/>
        </p:blipFill>
        <p:spPr>
          <a:xfrm>
            <a:off x="8105760" y="6303960"/>
            <a:ext cx="99396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6280" y="162000"/>
            <a:ext cx="8334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f89"/>
                </a:solidFill>
                <a:latin typeface="Arial"/>
              </a:rPr>
              <a:t>Лаборатория вычислительной механики</a:t>
            </a:r>
            <a:endParaRPr b="0" lang="en-US" sz="1800" spc="-1" strike="noStrike">
              <a:solidFill>
                <a:srgbClr val="073f89"/>
              </a:solidFill>
              <a:latin typeface="Arial"/>
            </a:endParaRPr>
          </a:p>
        </p:txBody>
      </p:sp>
      <p:pic>
        <p:nvPicPr>
          <p:cNvPr id="51" name="Рисунок 4" descr="umid.jpg"/>
          <p:cNvPicPr/>
          <p:nvPr/>
        </p:nvPicPr>
        <p:blipFill>
          <a:blip r:embed="rId1"/>
          <a:stretch/>
        </p:blipFill>
        <p:spPr>
          <a:xfrm>
            <a:off x="2884320" y="749160"/>
            <a:ext cx="3554640" cy="1792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328680" y="2813040"/>
            <a:ext cx="848664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 выборе целевых функций для оценки динамических показателей и параметрический анализ подвижного соста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В.А.Симо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рянский государственный технический универси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66280" y="162000"/>
            <a:ext cx="8334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f89"/>
                </a:solidFill>
                <a:latin typeface="Arial"/>
              </a:rPr>
              <a:t>Специфика критериев</a:t>
            </a:r>
            <a:endParaRPr b="0" lang="en-US" sz="18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511200" y="695160"/>
            <a:ext cx="7989840" cy="2225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и формировании целевых функций в задачах проектирования подвижного состава приходится иметь дело с двумя видами неопределе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ероятность режима функционирования объект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тепень принадлежности показателя нечеткому множеству, например, идеальных в некотором смысле объект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й тип неопределенности носит объективный характер и встречается при формировании свертки показателя на множестве условий функционирования объекта, для получения «средневзвешенных» значений  показател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ой тип неопределенности носит субъективный характер и встречается при формировании свертки нескольких показателей в один (многокритериальная оптимизация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61880" y="3058200"/>
            <a:ext cx="4175280" cy="94644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рмализация показател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сительно его граничных значений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мощью функции принадлежности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x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четкому множеств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2"/>
              <p:cNvSpPr txBox="1"/>
              <p:nvPr/>
            </p:nvSpPr>
            <p:spPr>
              <a:xfrm>
                <a:off x="687240" y="4041720"/>
                <a:ext cx="28195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eqAr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x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&lt;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lt;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≥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eqAr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5" name="Group 14"/>
          <p:cNvGrpSpPr/>
          <p:nvPr/>
        </p:nvGrpSpPr>
        <p:grpSpPr>
          <a:xfrm>
            <a:off x="4734000" y="3021120"/>
            <a:ext cx="4236840" cy="1915920"/>
            <a:chOff x="4734000" y="3021120"/>
            <a:chExt cx="4236840" cy="1915920"/>
          </a:xfrm>
        </p:grpSpPr>
        <p:sp>
          <p:nvSpPr>
            <p:cNvPr id="176" name="Text Box 15"/>
            <p:cNvSpPr/>
            <p:nvPr/>
          </p:nvSpPr>
          <p:spPr>
            <a:xfrm>
              <a:off x="5942880" y="4759920"/>
              <a:ext cx="240840" cy="1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x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8010360" y="4759920"/>
              <a:ext cx="226800" cy="1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x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5360760" y="4754880"/>
              <a:ext cx="240840" cy="1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r>
                <a:rPr b="1" lang="en-US" sz="1200" spc="-1" strike="noStrike" baseline="30000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8"/>
            <p:cNvSpPr/>
            <p:nvPr/>
          </p:nvSpPr>
          <p:spPr>
            <a:xfrm>
              <a:off x="8371800" y="4754880"/>
              <a:ext cx="240840" cy="1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r>
                <a:rPr b="1" lang="en-US" sz="1200" spc="-1" strike="noStrike" baseline="30000">
                  <a:solidFill>
                    <a:srgbClr val="008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0" name="Object 19"/>
            <p:cNvGraphicFramePr/>
            <p:nvPr/>
          </p:nvGraphicFramePr>
          <p:xfrm>
            <a:off x="4734000" y="3021120"/>
            <a:ext cx="4236840" cy="186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1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34000" y="3021120"/>
                      <a:ext cx="4236840" cy="186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Line 20"/>
            <p:cNvSpPr/>
            <p:nvPr/>
          </p:nvSpPr>
          <p:spPr>
            <a:xfrm>
              <a:off x="6074280" y="3481920"/>
              <a:ext cx="4680" cy="122616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23"/>
          <p:cNvSpPr/>
          <p:nvPr/>
        </p:nvSpPr>
        <p:spPr>
          <a:xfrm>
            <a:off x="700200" y="5119560"/>
            <a:ext cx="8034120" cy="94644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ертка может быть выполнена на основе любого критер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inimax, Byes-Laplas, Savig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т.д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стат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inimax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ерий в этом случае  соответствует пересечению нечетких множест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аддитивный критер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 весовых коэффициент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нтичен  их алгебраическому произвед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66280" y="162000"/>
            <a:ext cx="8334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f89"/>
                </a:solidFill>
                <a:latin typeface="Arial"/>
              </a:rPr>
              <a:t>Учет специфики критериев. Пример</a:t>
            </a:r>
            <a:endParaRPr b="0" lang="en-US" sz="18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511200" y="695160"/>
            <a:ext cx="2770200" cy="15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жные свойства показателей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тиворечив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личной весомостью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опоставимость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зависимостью по полез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10"/>
          <p:cNvSpPr/>
          <p:nvPr/>
        </p:nvSpPr>
        <p:spPr>
          <a:xfrm>
            <a:off x="490680" y="3751200"/>
            <a:ext cx="8169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 Поскольку безопасность движения порожнего вагона в существенной степени определяется интенсивностью боковых колебаний, то естественно предположить, что большей интенсивности будет соответствовать большая работа сил трения в контактах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479520" y="5481720"/>
            <a:ext cx="802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3.   Замена одного критерия на другой возможна, если удается показать согласованность (непротиворечивость) аддитивного показателя с показателем «Коэффициент устойчивости» (КУ) колеса по вкатыванию на рель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3270240" y="500040"/>
            <a:ext cx="3243240" cy="1828800"/>
            <a:chOff x="3270240" y="500040"/>
            <a:chExt cx="3243240" cy="1828800"/>
          </a:xfrm>
        </p:grpSpPr>
        <p:graphicFrame>
          <p:nvGraphicFramePr>
            <p:cNvPr id="189" name="Object 6"/>
            <p:cNvGraphicFramePr/>
            <p:nvPr/>
          </p:nvGraphicFramePr>
          <p:xfrm>
            <a:off x="3270240" y="500040"/>
            <a:ext cx="324324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70240" y="500040"/>
                      <a:ext cx="324324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AutoShape 5"/>
            <p:cNvSpPr/>
            <p:nvPr/>
          </p:nvSpPr>
          <p:spPr>
            <a:xfrm>
              <a:off x="3888000" y="1338480"/>
              <a:ext cx="257040" cy="180720"/>
            </a:xfrm>
            <a:prstGeom prst="wedgeRoundRectCallout">
              <a:avLst>
                <a:gd name="adj1" fmla="val 224935"/>
                <a:gd name="adj2" fmla="val 7596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1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оугольник 15"/>
          <p:cNvSpPr/>
          <p:nvPr/>
        </p:nvSpPr>
        <p:spPr>
          <a:xfrm>
            <a:off x="490680" y="4438800"/>
            <a:ext cx="8022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2.  В задаче оптимизации предпочтительнее использовать аддитивный критерий, обладающий лучшими свойствами ( большей чувствительностью к вариациям оптимизируемого параметра, высокой степенью воспроизводимости результатов при вариациях условий численного экперимента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12"/>
          <p:cNvGrpSpPr/>
          <p:nvPr/>
        </p:nvGrpSpPr>
        <p:grpSpPr>
          <a:xfrm>
            <a:off x="3290760" y="1860480"/>
            <a:ext cx="3133800" cy="1828800"/>
            <a:chOff x="3290760" y="1860480"/>
            <a:chExt cx="3133800" cy="1828800"/>
          </a:xfrm>
        </p:grpSpPr>
        <p:graphicFrame>
          <p:nvGraphicFramePr>
            <p:cNvPr id="196" name="Object 16"/>
            <p:cNvGraphicFramePr/>
            <p:nvPr/>
          </p:nvGraphicFramePr>
          <p:xfrm>
            <a:off x="3290760" y="1860480"/>
            <a:ext cx="3133800" cy="182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7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90760" y="1860480"/>
                      <a:ext cx="313380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AutoShape 15"/>
            <p:cNvSpPr/>
            <p:nvPr/>
          </p:nvSpPr>
          <p:spPr>
            <a:xfrm>
              <a:off x="3834000" y="3449880"/>
              <a:ext cx="1445760" cy="137160"/>
            </a:xfrm>
            <a:prstGeom prst="leftRightArrow">
              <a:avLst>
                <a:gd name="adj1" fmla="val 50000"/>
                <a:gd name="adj2" fmla="val 2098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5289480" y="3442320"/>
              <a:ext cx="158760" cy="21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13"/>
            <p:cNvSpPr/>
            <p:nvPr/>
          </p:nvSpPr>
          <p:spPr>
            <a:xfrm>
              <a:off x="3645360" y="3442320"/>
              <a:ext cx="179280" cy="21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20"/>
          <p:cNvGrpSpPr/>
          <p:nvPr/>
        </p:nvGrpSpPr>
        <p:grpSpPr>
          <a:xfrm>
            <a:off x="6323040" y="1963800"/>
            <a:ext cx="2614680" cy="1844640"/>
            <a:chOff x="6323040" y="1963800"/>
            <a:chExt cx="2614680" cy="1844640"/>
          </a:xfrm>
        </p:grpSpPr>
        <p:graphicFrame>
          <p:nvGraphicFramePr>
            <p:cNvPr id="202" name="Object 21"/>
            <p:cNvGraphicFramePr/>
            <p:nvPr/>
          </p:nvGraphicFramePr>
          <p:xfrm>
            <a:off x="6323040" y="1963800"/>
            <a:ext cx="2614680" cy="1844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3" name="Object 2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3040" y="1963800"/>
                      <a:ext cx="2614680" cy="18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AutoShape 22"/>
            <p:cNvSpPr/>
            <p:nvPr/>
          </p:nvSpPr>
          <p:spPr>
            <a:xfrm>
              <a:off x="7261920" y="2201400"/>
              <a:ext cx="172800" cy="219600"/>
            </a:xfrm>
            <a:prstGeom prst="wedgeRoundRectCallout">
              <a:avLst>
                <a:gd name="adj1" fmla="val -130800"/>
                <a:gd name="adj2" fmla="val 5607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23"/>
            <p:cNvSpPr/>
            <p:nvPr/>
          </p:nvSpPr>
          <p:spPr>
            <a:xfrm>
              <a:off x="8156160" y="2611080"/>
              <a:ext cx="172440" cy="218880"/>
            </a:xfrm>
            <a:prstGeom prst="wedgeRoundRectCallout">
              <a:avLst>
                <a:gd name="adj1" fmla="val 36398"/>
                <a:gd name="adj2" fmla="val 10075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4"/>
          <p:cNvGrpSpPr/>
          <p:nvPr/>
        </p:nvGrpSpPr>
        <p:grpSpPr>
          <a:xfrm>
            <a:off x="6249960" y="452520"/>
            <a:ext cx="2577960" cy="1828800"/>
            <a:chOff x="6249960" y="452520"/>
            <a:chExt cx="2577960" cy="1828800"/>
          </a:xfrm>
        </p:grpSpPr>
        <p:graphicFrame>
          <p:nvGraphicFramePr>
            <p:cNvPr id="208" name="Object 26"/>
            <p:cNvGraphicFramePr/>
            <p:nvPr/>
          </p:nvGraphicFramePr>
          <p:xfrm>
            <a:off x="6249960" y="452520"/>
            <a:ext cx="2577960" cy="182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9" name="Object 2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9960" y="452520"/>
                      <a:ext cx="25779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AutoShape 25"/>
            <p:cNvSpPr/>
            <p:nvPr/>
          </p:nvSpPr>
          <p:spPr>
            <a:xfrm>
              <a:off x="7178040" y="1057680"/>
              <a:ext cx="170640" cy="180720"/>
            </a:xfrm>
            <a:prstGeom prst="wedgeRoundRectCallout">
              <a:avLst>
                <a:gd name="adj1" fmla="val 282282"/>
                <a:gd name="adj2" fmla="val 18298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Object 4"/>
          <p:cNvGraphicFramePr/>
          <p:nvPr/>
        </p:nvGraphicFramePr>
        <p:xfrm>
          <a:off x="2035080" y="880920"/>
          <a:ext cx="3211560" cy="25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880920"/>
                    <a:ext cx="321156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3"/>
          <p:cNvGraphicFramePr/>
          <p:nvPr/>
        </p:nvGraphicFramePr>
        <p:xfrm>
          <a:off x="5486400" y="880920"/>
          <a:ext cx="3211560" cy="25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880920"/>
                    <a:ext cx="321156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2"/>
          <p:cNvGraphicFramePr/>
          <p:nvPr/>
        </p:nvGraphicFramePr>
        <p:xfrm>
          <a:off x="2035080" y="3516480"/>
          <a:ext cx="3222720" cy="25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5080" y="3516480"/>
                    <a:ext cx="3222720" cy="25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1"/>
          <p:cNvGraphicFramePr/>
          <p:nvPr/>
        </p:nvGraphicFramePr>
        <p:xfrm>
          <a:off x="5497560" y="3516480"/>
          <a:ext cx="3222720" cy="25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7560" y="3516480"/>
                    <a:ext cx="3222720" cy="25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8"/>
          <p:cNvSpPr/>
          <p:nvPr/>
        </p:nvSpPr>
        <p:spPr>
          <a:xfrm>
            <a:off x="4550040" y="6734880"/>
            <a:ext cx="4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566640" y="162000"/>
            <a:ext cx="8334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f89"/>
                </a:solidFill>
                <a:latin typeface="Arial"/>
              </a:rPr>
              <a:t>Пример 1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ыбор скользу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"/>
          <p:cNvSpPr/>
          <p:nvPr/>
        </p:nvSpPr>
        <p:spPr>
          <a:xfrm>
            <a:off x="566640" y="162000"/>
            <a:ext cx="8334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f89"/>
                </a:solidFill>
                <a:latin typeface="Arial"/>
              </a:rPr>
              <a:t>Пример 2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ыбор профилей коле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2068560" y="871560"/>
          <a:ext cx="31557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8560" y="871560"/>
                    <a:ext cx="3155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3"/>
          <p:cNvGraphicFramePr/>
          <p:nvPr/>
        </p:nvGraphicFramePr>
        <p:xfrm>
          <a:off x="5413320" y="857160"/>
          <a:ext cx="3164040" cy="262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3320" y="857160"/>
                    <a:ext cx="316404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2"/>
          <p:cNvGraphicFramePr/>
          <p:nvPr/>
        </p:nvGraphicFramePr>
        <p:xfrm>
          <a:off x="2079720" y="3451320"/>
          <a:ext cx="3146400" cy="259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79720" y="3451320"/>
                    <a:ext cx="31464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"/>
          <p:cNvGraphicFramePr/>
          <p:nvPr/>
        </p:nvGraphicFramePr>
        <p:xfrm>
          <a:off x="5421240" y="3451320"/>
          <a:ext cx="3156120" cy="25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21240" y="3451320"/>
                    <a:ext cx="31561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8"/>
          <p:cNvSpPr/>
          <p:nvPr/>
        </p:nvSpPr>
        <p:spPr>
          <a:xfrm>
            <a:off x="4550040" y="6734880"/>
            <a:ext cx="4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6280" y="162000"/>
            <a:ext cx="8334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f89"/>
                </a:solidFill>
                <a:latin typeface="Arial"/>
              </a:rPr>
              <a:t>Выводы</a:t>
            </a:r>
            <a:endParaRPr b="0" lang="en-US" sz="18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816120" y="692280"/>
            <a:ext cx="72277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оказа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оценивающий среднее сопротивление движению (ССД) на тестовом участке пути хорошо согласован с показателем КУ оценивающим безопасность по условиям вкатывания колеса на рельс при решении задач выбора решений по буксовым опорам, скользунам и профилям колес. Он обеспечивает более стабильные оценки, отражающие интенсивность боковых колебаний порожнего грузового вагона на трёхэлементных тележках и может быть использован в качестве основной целевой функции в задачах поиска оптимальных технических решений при проектировании скользунов, адаптеров и других узлов и деталей тележек, влияющих на безопасность по вкатыванию колеса на рель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зульт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полученные с использованием критерия на основе показателя ССД, должны быть подстрахованы проверкой по критерию на основе показателя К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7"/>
          <p:cNvSpPr txBox="1"/>
          <p:nvPr/>
        </p:nvSpPr>
        <p:spPr>
          <a:xfrm>
            <a:off x="1116000" y="2060640"/>
            <a:ext cx="7056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 !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522360" y="719280"/>
            <a:ext cx="809928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иверсальный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ханизм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вляется программным комплексо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версального назначения для моделирования динамики систем тел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железнодорожный модуль в составе У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моделировать динамику как отдельных экипажей, так и сцепов из разных единиц подвижного состава вплоть до полного состава поез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 моделировании возможен учет всех существенны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лияющих на динамическое воздействие экипажей на путь и безопасность движ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ое состояние экипаж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пути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жим ведения поез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вал 29"/>
          <p:cNvSpPr/>
          <p:nvPr/>
        </p:nvSpPr>
        <p:spPr>
          <a:xfrm>
            <a:off x="1495440" y="1463760"/>
            <a:ext cx="4335480" cy="1581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24"/>
          <p:cNvSpPr/>
          <p:nvPr/>
        </p:nvSpPr>
        <p:spPr>
          <a:xfrm>
            <a:off x="1731960" y="1673280"/>
            <a:ext cx="2119320" cy="12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Овал 26"/>
          <p:cNvSpPr/>
          <p:nvPr/>
        </p:nvSpPr>
        <p:spPr>
          <a:xfrm>
            <a:off x="6029280" y="1639800"/>
            <a:ext cx="2119320" cy="12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вал 25"/>
          <p:cNvSpPr/>
          <p:nvPr/>
        </p:nvSpPr>
        <p:spPr>
          <a:xfrm>
            <a:off x="3430440" y="1639800"/>
            <a:ext cx="2119320" cy="12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6280" y="162000"/>
            <a:ext cx="8334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f89"/>
                </a:solidFill>
                <a:latin typeface="Arial"/>
              </a:rPr>
              <a:t>Основные показатели</a:t>
            </a:r>
            <a:endParaRPr b="0" lang="en-US" sz="18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22360" y="719280"/>
            <a:ext cx="80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казате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движного состава оцениваю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1833480" y="2003400"/>
            <a:ext cx="18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зопаснос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5996160" y="1873080"/>
            <a:ext cx="218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нос и сопротивление движе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379440" y="3076560"/>
            <a:ext cx="3149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эффициент устойчивости о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катывания колеса на рель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3311280" y="3392640"/>
            <a:ext cx="33994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ковые силы по отжатию рель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2354760" y="3903840"/>
            <a:ext cx="30243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тикальные силы  на рель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4991040" y="4235400"/>
            <a:ext cx="14745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мные сил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3697920" y="5243400"/>
            <a:ext cx="27957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ьные силы в поезд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499320" y="4370400"/>
            <a:ext cx="26982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корения в кузове ваг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417600" y="5627520"/>
            <a:ext cx="42253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мочные напряжения в подошве рель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1700280" y="4702320"/>
            <a:ext cx="52434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еречные силы сдвига рельсошпальной реше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23"/>
          <p:cNvSpPr/>
          <p:nvPr/>
        </p:nvSpPr>
        <p:spPr>
          <a:xfrm>
            <a:off x="3395520" y="1981080"/>
            <a:ext cx="2187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ловое воздействие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уть и экипа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27"/>
          <p:cNvSpPr/>
          <p:nvPr/>
        </p:nvSpPr>
        <p:spPr>
          <a:xfrm>
            <a:off x="6639480" y="3784680"/>
            <a:ext cx="196236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сил тр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28"/>
          <p:cNvSpPr/>
          <p:nvPr/>
        </p:nvSpPr>
        <p:spPr>
          <a:xfrm>
            <a:off x="6964200" y="4989600"/>
            <a:ext cx="1657440" cy="824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дель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роти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490680" y="777960"/>
            <a:ext cx="83707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ариативность оценок основных динамических показателей при натурных экспериментах и компьютерном моделировании динамики грузовых вагонов вызвана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ецификой конструкции трехэлементных тележек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ариацией свойств пути и условий эксперимен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ецификой обработки параметров и применяем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ритериев для оценки качества экипаж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 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воляет говори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 стохастичности динамическ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грузовой вагон-пу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642960" y="3886200"/>
            <a:ext cx="3517920" cy="1995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"/>
          <p:cNvPicPr/>
          <p:nvPr/>
        </p:nvPicPr>
        <p:blipFill>
          <a:blip r:embed="rId2"/>
          <a:stretch/>
        </p:blipFill>
        <p:spPr>
          <a:xfrm>
            <a:off x="4788000" y="3762360"/>
            <a:ext cx="3779640" cy="2303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566640" y="162000"/>
            <a:ext cx="8334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f89"/>
                </a:solidFill>
                <a:latin typeface="Arial"/>
              </a:rPr>
              <a:t>Дисперсия показат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6280" y="162000"/>
            <a:ext cx="8334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73f89"/>
                </a:solidFill>
                <a:latin typeface="Arial"/>
              </a:rPr>
              <a:t>Специфика конструкции трехэлементной тележки</a:t>
            </a:r>
            <a:endParaRPr b="0" lang="en-US" sz="1800" spc="-1" strike="noStrike">
              <a:solidFill>
                <a:srgbClr val="073f89"/>
              </a:solidFill>
              <a:latin typeface="Arial"/>
            </a:endParaRPr>
          </a:p>
        </p:txBody>
      </p:sp>
      <p:pic>
        <p:nvPicPr>
          <p:cNvPr id="78" name="Picture 3" descr="1"/>
          <p:cNvPicPr/>
          <p:nvPr/>
        </p:nvPicPr>
        <p:blipFill>
          <a:blip r:embed="rId1"/>
          <a:stretch/>
        </p:blipFill>
        <p:spPr>
          <a:xfrm>
            <a:off x="4564080" y="914400"/>
            <a:ext cx="1866960" cy="2155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1"/>
          <p:cNvPicPr/>
          <p:nvPr/>
        </p:nvPicPr>
        <p:blipFill>
          <a:blip r:embed="rId2"/>
          <a:stretch/>
        </p:blipFill>
        <p:spPr>
          <a:xfrm>
            <a:off x="6469200" y="914400"/>
            <a:ext cx="2520720" cy="1995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1"/>
          <p:cNvPicPr/>
          <p:nvPr/>
        </p:nvPicPr>
        <p:blipFill>
          <a:blip r:embed="rId3"/>
          <a:stretch/>
        </p:blipFill>
        <p:spPr>
          <a:xfrm>
            <a:off x="4487760" y="3124080"/>
            <a:ext cx="1995480" cy="2406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1"/>
          <p:cNvPicPr/>
          <p:nvPr/>
        </p:nvPicPr>
        <p:blipFill>
          <a:blip r:embed="rId4"/>
          <a:stretch/>
        </p:blipFill>
        <p:spPr>
          <a:xfrm>
            <a:off x="6926400" y="3124080"/>
            <a:ext cx="1866600" cy="21560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5464800" y="571500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актные точки на кли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wtest1.avi" descr=""/>
          <p:cNvPicPr/>
          <p:nvPr/>
        </p:nvPicPr>
        <p:blipFill>
          <a:blip r:embed="rId5"/>
          <a:stretch/>
        </p:blipFill>
        <p:spPr>
          <a:xfrm>
            <a:off x="689040" y="3638520"/>
            <a:ext cx="2943000" cy="2657520"/>
          </a:xfrm>
          <a:prstGeom prst="rect">
            <a:avLst/>
          </a:prstGeom>
          <a:ln w="0">
            <a:noFill/>
          </a:ln>
        </p:spPr>
      </p:pic>
      <p:pic>
        <p:nvPicPr>
          <p:cNvPr id="84" name="wedgetest.avi" descr=""/>
          <p:cNvPicPr/>
          <p:nvPr/>
        </p:nvPicPr>
        <p:blipFill>
          <a:blip r:embed="rId6"/>
          <a:stretch/>
        </p:blipFill>
        <p:spPr>
          <a:xfrm>
            <a:off x="428760" y="1941480"/>
            <a:ext cx="3800520" cy="1971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325440" y="863640"/>
            <a:ext cx="370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ьшое количество контактных взаимодействий твердых те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икционное взаимодейств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4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24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24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6280" y="162000"/>
            <a:ext cx="8334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73f89"/>
                </a:solidFill>
                <a:latin typeface="Arial"/>
              </a:rPr>
              <a:t>Вариация свойств пути и условий эксперимента</a:t>
            </a:r>
            <a:endParaRPr b="0" lang="en-US" sz="18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744480" y="795240"/>
            <a:ext cx="33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стаби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характеристик пути в разных опыт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6" descr="2881131.jpg"/>
          <p:cNvPicPr/>
          <p:nvPr/>
        </p:nvPicPr>
        <p:blipFill>
          <a:blip r:embed="rId1"/>
          <a:stretch/>
        </p:blipFill>
        <p:spPr>
          <a:xfrm>
            <a:off x="3852720" y="642960"/>
            <a:ext cx="3121200" cy="23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523880" y="3336840"/>
          <a:ext cx="6096240" cy="1825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523880" y="3336840"/>
          <a:ext cx="6096240" cy="1825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523880" y="3336840"/>
          <a:ext cx="6096240" cy="1825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523880" y="3336840"/>
          <a:ext cx="6096240" cy="1825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523880" y="3336840"/>
          <a:ext cx="6096240" cy="1825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"/>
          <p:cNvGrpSpPr/>
          <p:nvPr/>
        </p:nvGrpSpPr>
        <p:grpSpPr>
          <a:xfrm>
            <a:off x="6510240" y="4114800"/>
            <a:ext cx="1989360" cy="2075760"/>
            <a:chOff x="6510240" y="4114800"/>
            <a:chExt cx="1989360" cy="2075760"/>
          </a:xfrm>
        </p:grpSpPr>
        <p:sp>
          <p:nvSpPr>
            <p:cNvPr id="96" name="AutoShape 24"/>
            <p:cNvSpPr/>
            <p:nvPr/>
          </p:nvSpPr>
          <p:spPr>
            <a:xfrm>
              <a:off x="6510240" y="4114800"/>
              <a:ext cx="1989360" cy="20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23"/>
            <p:cNvSpPr/>
            <p:nvPr/>
          </p:nvSpPr>
          <p:spPr>
            <a:xfrm>
              <a:off x="6800400" y="4324680"/>
              <a:ext cx="720" cy="162432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6751440" y="4254480"/>
              <a:ext cx="94320" cy="950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49" h="150">
                  <a:moveTo>
                    <a:pt x="77" y="0"/>
                  </a:moveTo>
                  <a:lnTo>
                    <a:pt x="149" y="150"/>
                  </a:lnTo>
                  <a:lnTo>
                    <a:pt x="139" y="145"/>
                  </a:lnTo>
                  <a:lnTo>
                    <a:pt x="130" y="140"/>
                  </a:lnTo>
                  <a:lnTo>
                    <a:pt x="115" y="135"/>
                  </a:lnTo>
                  <a:lnTo>
                    <a:pt x="106" y="135"/>
                  </a:lnTo>
                  <a:lnTo>
                    <a:pt x="91" y="130"/>
                  </a:lnTo>
                  <a:lnTo>
                    <a:pt x="82" y="130"/>
                  </a:lnTo>
                  <a:lnTo>
                    <a:pt x="67" y="130"/>
                  </a:lnTo>
                  <a:lnTo>
                    <a:pt x="58" y="130"/>
                  </a:lnTo>
                  <a:lnTo>
                    <a:pt x="48" y="135"/>
                  </a:lnTo>
                  <a:lnTo>
                    <a:pt x="34" y="135"/>
                  </a:lnTo>
                  <a:lnTo>
                    <a:pt x="24" y="140"/>
                  </a:lnTo>
                  <a:lnTo>
                    <a:pt x="10" y="145"/>
                  </a:lnTo>
                  <a:lnTo>
                    <a:pt x="0" y="15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6800400" y="5949000"/>
              <a:ext cx="1578240" cy="72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8357400" y="5900400"/>
              <a:ext cx="94320" cy="943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49" h="149">
                  <a:moveTo>
                    <a:pt x="149" y="77"/>
                  </a:moveTo>
                  <a:lnTo>
                    <a:pt x="0" y="149"/>
                  </a:lnTo>
                  <a:lnTo>
                    <a:pt x="5" y="140"/>
                  </a:lnTo>
                  <a:lnTo>
                    <a:pt x="10" y="130"/>
                  </a:lnTo>
                  <a:lnTo>
                    <a:pt x="15" y="121"/>
                  </a:lnTo>
                  <a:lnTo>
                    <a:pt x="15" y="106"/>
                  </a:lnTo>
                  <a:lnTo>
                    <a:pt x="15" y="96"/>
                  </a:lnTo>
                  <a:lnTo>
                    <a:pt x="20" y="82"/>
                  </a:lnTo>
                  <a:lnTo>
                    <a:pt x="20" y="72"/>
                  </a:lnTo>
                  <a:lnTo>
                    <a:pt x="15" y="58"/>
                  </a:lnTo>
                  <a:lnTo>
                    <a:pt x="15" y="48"/>
                  </a:lnTo>
                  <a:lnTo>
                    <a:pt x="15" y="34"/>
                  </a:lnTo>
                  <a:lnTo>
                    <a:pt x="10" y="24"/>
                  </a:lnTo>
                  <a:lnTo>
                    <a:pt x="5" y="15"/>
                  </a:lnTo>
                  <a:lnTo>
                    <a:pt x="0" y="0"/>
                  </a:lnTo>
                  <a:lnTo>
                    <a:pt x="14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9"/>
            <p:cNvSpPr/>
            <p:nvPr/>
          </p:nvSpPr>
          <p:spPr>
            <a:xfrm flipV="1">
              <a:off x="6800400" y="4324680"/>
              <a:ext cx="1614600" cy="16243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6800400" y="4508280"/>
              <a:ext cx="1614600" cy="1440720"/>
            </a:xfrm>
            <a:custGeom>
              <a:avLst/>
              <a:gdLst>
                <a:gd name="textAreaLeft" fmla="*/ 0 w 1614600"/>
                <a:gd name="textAreaRight" fmla="*/ 1614960 w 1614600"/>
                <a:gd name="textAreaTop" fmla="*/ 0 h 1440720"/>
                <a:gd name="textAreaBottom" fmla="*/ 1441080 h 1440720"/>
              </a:gdLst>
              <a:ahLst/>
              <a:rect l="textAreaLeft" t="textAreaTop" r="textAreaRight" b="textAreaBottom"/>
              <a:pathLst>
                <a:path w="2542" h="2269">
                  <a:moveTo>
                    <a:pt x="0" y="2269"/>
                  </a:moveTo>
                  <a:lnTo>
                    <a:pt x="72" y="2231"/>
                  </a:lnTo>
                  <a:lnTo>
                    <a:pt x="144" y="2187"/>
                  </a:lnTo>
                  <a:lnTo>
                    <a:pt x="215" y="2149"/>
                  </a:lnTo>
                  <a:lnTo>
                    <a:pt x="287" y="2111"/>
                  </a:lnTo>
                  <a:lnTo>
                    <a:pt x="359" y="2072"/>
                  </a:lnTo>
                  <a:lnTo>
                    <a:pt x="431" y="2034"/>
                  </a:lnTo>
                  <a:lnTo>
                    <a:pt x="498" y="1990"/>
                  </a:lnTo>
                  <a:lnTo>
                    <a:pt x="565" y="1947"/>
                  </a:lnTo>
                  <a:lnTo>
                    <a:pt x="627" y="1904"/>
                  </a:lnTo>
                  <a:lnTo>
                    <a:pt x="685" y="1851"/>
                  </a:lnTo>
                  <a:lnTo>
                    <a:pt x="742" y="1798"/>
                  </a:lnTo>
                  <a:lnTo>
                    <a:pt x="790" y="1740"/>
                  </a:lnTo>
                  <a:lnTo>
                    <a:pt x="838" y="1678"/>
                  </a:lnTo>
                  <a:lnTo>
                    <a:pt x="876" y="1606"/>
                  </a:lnTo>
                  <a:lnTo>
                    <a:pt x="910" y="1529"/>
                  </a:lnTo>
                  <a:lnTo>
                    <a:pt x="919" y="1505"/>
                  </a:lnTo>
                  <a:lnTo>
                    <a:pt x="924" y="1481"/>
                  </a:lnTo>
                  <a:lnTo>
                    <a:pt x="934" y="1452"/>
                  </a:lnTo>
                  <a:lnTo>
                    <a:pt x="943" y="1428"/>
                  </a:lnTo>
                  <a:lnTo>
                    <a:pt x="948" y="1399"/>
                  </a:lnTo>
                  <a:lnTo>
                    <a:pt x="958" y="1370"/>
                  </a:lnTo>
                  <a:lnTo>
                    <a:pt x="962" y="1341"/>
                  </a:lnTo>
                  <a:lnTo>
                    <a:pt x="967" y="1317"/>
                  </a:lnTo>
                  <a:lnTo>
                    <a:pt x="977" y="1288"/>
                  </a:lnTo>
                  <a:lnTo>
                    <a:pt x="981" y="1259"/>
                  </a:lnTo>
                  <a:lnTo>
                    <a:pt x="986" y="1231"/>
                  </a:lnTo>
                  <a:lnTo>
                    <a:pt x="996" y="1202"/>
                  </a:lnTo>
                  <a:lnTo>
                    <a:pt x="1001" y="1178"/>
                  </a:lnTo>
                  <a:lnTo>
                    <a:pt x="1010" y="1149"/>
                  </a:lnTo>
                  <a:lnTo>
                    <a:pt x="1015" y="1120"/>
                  </a:lnTo>
                  <a:lnTo>
                    <a:pt x="1029" y="1077"/>
                  </a:lnTo>
                  <a:lnTo>
                    <a:pt x="1049" y="1029"/>
                  </a:lnTo>
                  <a:lnTo>
                    <a:pt x="1063" y="985"/>
                  </a:lnTo>
                  <a:lnTo>
                    <a:pt x="1082" y="942"/>
                  </a:lnTo>
                  <a:lnTo>
                    <a:pt x="1106" y="899"/>
                  </a:lnTo>
                  <a:lnTo>
                    <a:pt x="1125" y="860"/>
                  </a:lnTo>
                  <a:lnTo>
                    <a:pt x="1149" y="822"/>
                  </a:lnTo>
                  <a:lnTo>
                    <a:pt x="1173" y="783"/>
                  </a:lnTo>
                  <a:lnTo>
                    <a:pt x="1197" y="745"/>
                  </a:lnTo>
                  <a:lnTo>
                    <a:pt x="1221" y="711"/>
                  </a:lnTo>
                  <a:lnTo>
                    <a:pt x="1250" y="673"/>
                  </a:lnTo>
                  <a:lnTo>
                    <a:pt x="1331" y="572"/>
                  </a:lnTo>
                  <a:lnTo>
                    <a:pt x="1417" y="476"/>
                  </a:lnTo>
                  <a:lnTo>
                    <a:pt x="1513" y="384"/>
                  </a:lnTo>
                  <a:lnTo>
                    <a:pt x="1614" y="303"/>
                  </a:lnTo>
                  <a:lnTo>
                    <a:pt x="1724" y="230"/>
                  </a:lnTo>
                  <a:lnTo>
                    <a:pt x="1839" y="168"/>
                  </a:lnTo>
                  <a:lnTo>
                    <a:pt x="1963" y="110"/>
                  </a:lnTo>
                  <a:lnTo>
                    <a:pt x="2097" y="67"/>
                  </a:lnTo>
                  <a:lnTo>
                    <a:pt x="2236" y="33"/>
                  </a:lnTo>
                  <a:lnTo>
                    <a:pt x="2384" y="9"/>
                  </a:lnTo>
                  <a:lnTo>
                    <a:pt x="2542" y="0"/>
                  </a:lnTo>
                </a:path>
              </a:pathLst>
            </a:custGeom>
            <a:noFill/>
            <a:ln w="15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6654240" y="4184640"/>
              <a:ext cx="792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8378640" y="59770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>
              <a:off x="7283880" y="5155560"/>
              <a:ext cx="179640" cy="7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4"/>
            <p:cNvSpPr/>
            <p:nvPr/>
          </p:nvSpPr>
          <p:spPr>
            <a:xfrm>
              <a:off x="7408800" y="5128200"/>
              <a:ext cx="54360" cy="54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86" h="86">
                  <a:moveTo>
                    <a:pt x="0" y="86"/>
                  </a:moveTo>
                  <a:lnTo>
                    <a:pt x="86" y="43"/>
                  </a:lnTo>
                  <a:lnTo>
                    <a:pt x="0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>
              <a:off x="7588080" y="5155560"/>
              <a:ext cx="182160" cy="7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7588080" y="5128200"/>
              <a:ext cx="54360" cy="54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86" h="86">
                  <a:moveTo>
                    <a:pt x="86" y="0"/>
                  </a:moveTo>
                  <a:lnTo>
                    <a:pt x="0" y="43"/>
                  </a:lnTo>
                  <a:lnTo>
                    <a:pt x="86" y="86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7445160" y="5155560"/>
              <a:ext cx="142560" cy="7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8056080" y="4397760"/>
              <a:ext cx="720" cy="1803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8029080" y="4523760"/>
              <a:ext cx="55080" cy="54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87" h="86">
                  <a:moveTo>
                    <a:pt x="0" y="0"/>
                  </a:moveTo>
                  <a:lnTo>
                    <a:pt x="43" y="86"/>
                  </a:lnTo>
                  <a:lnTo>
                    <a:pt x="87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8056080" y="4687920"/>
              <a:ext cx="720" cy="1800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8029080" y="4687920"/>
              <a:ext cx="55080" cy="55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7" h="87">
                  <a:moveTo>
                    <a:pt x="87" y="87"/>
                  </a:moveTo>
                  <a:lnTo>
                    <a:pt x="43" y="0"/>
                  </a:lnTo>
                  <a:lnTo>
                    <a:pt x="0" y="87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8056080" y="4578120"/>
              <a:ext cx="720" cy="1098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7928280" y="43095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7839000" y="4294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3"/>
            <p:cNvSpPr/>
            <p:nvPr/>
          </p:nvSpPr>
          <p:spPr>
            <a:xfrm>
              <a:off x="7965360" y="5048640"/>
              <a:ext cx="7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"/>
            <p:cNvSpPr/>
            <p:nvPr/>
          </p:nvSpPr>
          <p:spPr>
            <a:xfrm>
              <a:off x="7856640" y="5033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Rectangle 32"/>
          <p:cNvSpPr/>
          <p:nvPr/>
        </p:nvSpPr>
        <p:spPr>
          <a:xfrm>
            <a:off x="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39"/>
          <p:cNvSpPr/>
          <p:nvPr/>
        </p:nvSpPr>
        <p:spPr>
          <a:xfrm>
            <a:off x="685800" y="303696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точ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держания в процессе опытов варьируем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й парамет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40"/>
          <p:cNvSpPr/>
          <p:nvPr/>
        </p:nvSpPr>
        <p:spPr>
          <a:xfrm>
            <a:off x="6531120" y="33195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Рисунок 41" descr="p33.jpg"/>
          <p:cNvPicPr/>
          <p:nvPr/>
        </p:nvPicPr>
        <p:blipFill>
          <a:blip r:embed="rId2"/>
          <a:stretch/>
        </p:blipFill>
        <p:spPr>
          <a:xfrm>
            <a:off x="3048120" y="3605040"/>
            <a:ext cx="2949480" cy="22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6280" y="162000"/>
            <a:ext cx="8334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f89"/>
                </a:solidFill>
                <a:latin typeface="Arial"/>
              </a:rPr>
              <a:t>Специфика критериев</a:t>
            </a:r>
            <a:endParaRPr b="0" lang="en-US" sz="18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182520" y="2392200"/>
            <a:ext cx="4851360" cy="520200"/>
          </a:xfrm>
          <a:prstGeom prst="rect">
            <a:avLst/>
          </a:prstGeom>
          <a:noFill/>
          <a:ln w="936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Применяемые показатели безопасн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большинстве своем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являются  неаддитивными  (минимаксным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99040" y="1952640"/>
          <a:ext cx="3019320" cy="1279440"/>
        </p:xfrm>
        <a:graphic>
          <a:graphicData uri="http://schemas.openxmlformats.org/drawingml/2006/table">
            <a:tbl>
              <a:tblPr/>
              <a:tblGrid>
                <a:gridCol w="749160"/>
                <a:gridCol w="587520"/>
                <a:gridCol w="601560"/>
                <a:gridCol w="497160"/>
                <a:gridCol w="583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ьтернатив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ение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ение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14"/>
          <p:cNvSpPr/>
          <p:nvPr/>
        </p:nvSpPr>
        <p:spPr>
          <a:xfrm>
            <a:off x="257040" y="3057480"/>
            <a:ext cx="331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ценки минимаксны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зателей выполняются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 «хвостах» вероятностных распреде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5" descr=""/>
          <p:cNvPicPr/>
          <p:nvPr/>
        </p:nvPicPr>
        <p:blipFill>
          <a:blip r:embed="rId1"/>
          <a:stretch/>
        </p:blipFill>
        <p:spPr>
          <a:xfrm>
            <a:off x="3592440" y="3313080"/>
            <a:ext cx="4822920" cy="13273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6"/>
          <p:cNvGrpSpPr/>
          <p:nvPr/>
        </p:nvGrpSpPr>
        <p:grpSpPr>
          <a:xfrm>
            <a:off x="612720" y="3657600"/>
            <a:ext cx="2711520" cy="1162080"/>
            <a:chOff x="612720" y="3657600"/>
            <a:chExt cx="2711520" cy="1162080"/>
          </a:xfrm>
        </p:grpSpPr>
        <p:sp>
          <p:nvSpPr>
            <p:cNvPr id="131" name="Oval 17"/>
            <p:cNvSpPr/>
            <p:nvPr/>
          </p:nvSpPr>
          <p:spPr>
            <a:xfrm>
              <a:off x="2880360" y="4032000"/>
              <a:ext cx="443880" cy="78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8"/>
            <p:cNvGrpSpPr/>
            <p:nvPr/>
          </p:nvGrpSpPr>
          <p:grpSpPr>
            <a:xfrm>
              <a:off x="612720" y="3657600"/>
              <a:ext cx="2711520" cy="990360"/>
              <a:chOff x="612720" y="3657600"/>
              <a:chExt cx="2711520" cy="990360"/>
            </a:xfrm>
          </p:grpSpPr>
          <p:graphicFrame>
            <p:nvGraphicFramePr>
              <p:cNvPr id="133" name="Object 19"/>
              <p:cNvGraphicFramePr/>
              <p:nvPr/>
            </p:nvGraphicFramePr>
            <p:xfrm>
              <a:off x="612720" y="3657600"/>
              <a:ext cx="2711520" cy="839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4" name="Object 19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12720" y="3657600"/>
                        <a:ext cx="2711520" cy="839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cxnSp>
            <p:nvCxnSpPr>
              <p:cNvPr id="135" name="AutoShape 20"/>
              <p:cNvCxnSpPr/>
              <p:nvPr/>
            </p:nvCxnSpPr>
            <p:spPr>
              <a:xfrm>
                <a:off x="851760" y="4333320"/>
                <a:ext cx="1080" cy="30492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cxnSp>
            <p:nvCxnSpPr>
              <p:cNvPr id="136" name="AutoShape 21"/>
              <p:cNvCxnSpPr/>
              <p:nvPr/>
            </p:nvCxnSpPr>
            <p:spPr>
              <a:xfrm>
                <a:off x="3076920" y="4343400"/>
                <a:ext cx="1080" cy="30492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</a:ln>
            </p:spPr>
          </p:cxnSp>
          <p:cxnSp>
            <p:nvCxnSpPr>
              <p:cNvPr id="137" name="AutoShape 22"/>
              <p:cNvCxnSpPr/>
              <p:nvPr/>
            </p:nvCxnSpPr>
            <p:spPr>
              <a:xfrm>
                <a:off x="851760" y="4597560"/>
                <a:ext cx="2225520" cy="108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138" name="Oval 23"/>
            <p:cNvSpPr/>
            <p:nvPr/>
          </p:nvSpPr>
          <p:spPr>
            <a:xfrm>
              <a:off x="612720" y="4032000"/>
              <a:ext cx="443880" cy="78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Picture 46" descr=""/>
          <p:cNvPicPr/>
          <p:nvPr/>
        </p:nvPicPr>
        <p:blipFill>
          <a:blip r:embed="rId4"/>
          <a:stretch/>
        </p:blipFill>
        <p:spPr>
          <a:xfrm>
            <a:off x="600120" y="4870440"/>
            <a:ext cx="3703680" cy="1150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7" descr=""/>
          <p:cNvPicPr/>
          <p:nvPr/>
        </p:nvPicPr>
        <p:blipFill>
          <a:blip r:embed="rId5"/>
          <a:stretch/>
        </p:blipFill>
        <p:spPr>
          <a:xfrm>
            <a:off x="4667400" y="4861080"/>
            <a:ext cx="3713040" cy="11556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>
            <a:off x="461880" y="595440"/>
            <a:ext cx="841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Применяемые показател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построенные на их основе критерии оценки динамических качеств можно разделить по способу получения  (агрегирования) оценок на два класса 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ддитивные и неаддитивн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ддитивные критерии формируется на основе естественных представлений человека о полезности в виде интегральной суммы значений показателя в процессе функционирования объек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2"/>
              <p:cNvSpPr txBox="1"/>
              <p:nvPr/>
            </p:nvSpPr>
            <p:spPr>
              <a:xfrm>
                <a:off x="1617840" y="1741320"/>
                <a:ext cx="102060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0"/>
              <p:cNvSpPr txBox="1"/>
              <p:nvPr/>
            </p:nvSpPr>
            <p:spPr>
              <a:xfrm>
                <a:off x="2987640" y="1913040"/>
                <a:ext cx="1413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j</m:t>
                        </m:r>
                      </m:lim>
                    </m:limLow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66280" y="162000"/>
            <a:ext cx="8334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f89"/>
                </a:solidFill>
                <a:latin typeface="Arial"/>
              </a:rPr>
              <a:t>Специфика критериев</a:t>
            </a:r>
            <a:endParaRPr b="0" lang="en-US" sz="18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826920" y="5414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Показатели безопасности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по вкатыванию колеса на рель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14946" t="0" r="-4861" b="0"/>
          <a:stretch/>
        </p:blipFill>
        <p:spPr>
          <a:xfrm>
            <a:off x="849240" y="871560"/>
            <a:ext cx="2363760" cy="1463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485640" y="2367000"/>
                <a:ext cx="10749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δ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δ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2270160" y="2349360"/>
                <a:ext cx="11462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a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δ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1592280" y="2306520"/>
                <a:ext cx="5349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y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Прямоугольник 25"/>
          <p:cNvSpPr/>
          <p:nvPr/>
        </p:nvSpPr>
        <p:spPr>
          <a:xfrm>
            <a:off x="3570120" y="1042920"/>
            <a:ext cx="5208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Нормировочный коэффициент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Nad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отражает предельное значение отношения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y/Fz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ля </a:t>
            </a:r>
            <a:r>
              <a:rPr b="1" lang="el-GR" sz="13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=60</a:t>
            </a:r>
            <a:r>
              <a:rPr b="1" lang="ru-RU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и µ=0.3 величина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Nad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= 0,94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 нормах ЕС допустимая величина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Nad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инимается с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5%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апасом, т.е.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y/Fz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≤ 0.85*0,94=0,8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 России оценивается коэффициент устойчивости по вкатыванию КУ=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z/Fy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≥1/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Nad.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ля грузовых вагонов в условиях отсутствия продольных сил КУ≥1,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4646520" y="3308400"/>
            <a:ext cx="41324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Arial"/>
                <a:ea typeface="Arial"/>
              </a:rPr>
              <a:t>Замена в нормировочном коэффициенте </a:t>
            </a:r>
            <a:r>
              <a:rPr b="1" i="1" lang="en-US" sz="1300" spc="-1" strike="noStrike">
                <a:solidFill>
                  <a:srgbClr val="c00000"/>
                </a:solidFill>
                <a:latin typeface="Arial"/>
                <a:ea typeface="Arial"/>
              </a:rPr>
              <a:t>Nad</a:t>
            </a:r>
            <a:r>
              <a:rPr b="1" lang="en-US" sz="13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1300" spc="-1" strike="noStrike">
                <a:solidFill>
                  <a:srgbClr val="c00000"/>
                </a:solidFill>
                <a:latin typeface="Arial"/>
                <a:ea typeface="Arial"/>
              </a:rPr>
              <a:t>переменной величины </a:t>
            </a:r>
            <a:r>
              <a:rPr b="1" lang="el-GR" sz="1300" spc="-1" strike="noStrike">
                <a:solidFill>
                  <a:srgbClr val="c00000"/>
                </a:solidFill>
                <a:latin typeface="Arial"/>
                <a:ea typeface="Arial"/>
              </a:rPr>
              <a:t>μ</a:t>
            </a:r>
            <a:r>
              <a:rPr b="1" i="1" lang="en-US" sz="13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y</a:t>
            </a:r>
            <a:r>
              <a:rPr b="1" lang="en-US" sz="13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1300" spc="-1" strike="noStrike">
                <a:solidFill>
                  <a:srgbClr val="c00000"/>
                </a:solidFill>
                <a:latin typeface="Arial"/>
                <a:ea typeface="Arial"/>
              </a:rPr>
              <a:t>на константу </a:t>
            </a:r>
            <a:r>
              <a:rPr b="1" lang="el-GR" sz="1300" spc="-1" strike="noStrike">
                <a:solidFill>
                  <a:srgbClr val="c00000"/>
                </a:solidFill>
                <a:latin typeface="Arial"/>
                <a:ea typeface="Arial"/>
              </a:rPr>
              <a:t>μ</a:t>
            </a:r>
            <a:r>
              <a:rPr b="1" lang="ru-RU" sz="13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Arial"/>
                <a:ea typeface="Arial"/>
              </a:rPr>
              <a:t>Критерий изначально (по умолчанию) не предполагал оценку на этом этапе вкатывания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333360" y="3319560"/>
            <a:ext cx="402444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Оценки очень консервативны, т.е. указывают на опасность схода там, где её зачастую нет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Неадекватные значения нормировочного коэффициента при продолжении вкатывания колеса на рельс выше критической точки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41"/>
          <p:cNvSpPr/>
          <p:nvPr/>
        </p:nvSpPr>
        <p:spPr>
          <a:xfrm>
            <a:off x="741240" y="2948040"/>
            <a:ext cx="298152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достатки критерия Нада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42"/>
          <p:cNvSpPr/>
          <p:nvPr/>
        </p:nvSpPr>
        <p:spPr>
          <a:xfrm>
            <a:off x="5324400" y="2936880"/>
            <a:ext cx="185112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Причи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43"/>
          <p:cNvSpPr/>
          <p:nvPr/>
        </p:nvSpPr>
        <p:spPr>
          <a:xfrm>
            <a:off x="325440" y="4643280"/>
            <a:ext cx="8501040" cy="459000"/>
          </a:xfrm>
          <a:prstGeom prst="rect">
            <a:avLst/>
          </a:prstGeom>
          <a:solidFill>
            <a:srgbClr val="e8d5b6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ритическая точка на профиле гребня это первая точка контакта в процессе вкатывания с наибольшим углом наклона образующей греб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Рисунок 4" descr=""/>
          <p:cNvPicPr/>
          <p:nvPr/>
        </p:nvPicPr>
        <p:blipFill>
          <a:blip r:embed="rId2"/>
          <a:stretch/>
        </p:blipFill>
        <p:spPr>
          <a:xfrm>
            <a:off x="571680" y="5232240"/>
            <a:ext cx="2178000" cy="10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"/>
          <p:cNvPicPr/>
          <p:nvPr/>
        </p:nvPicPr>
        <p:blipFill>
          <a:blip r:embed="rId3"/>
          <a:stretch/>
        </p:blipFill>
        <p:spPr>
          <a:xfrm>
            <a:off x="3143160" y="5230800"/>
            <a:ext cx="2214720" cy="10508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6"/>
          <p:cNvSpPr/>
          <p:nvPr/>
        </p:nvSpPr>
        <p:spPr>
          <a:xfrm>
            <a:off x="5549760" y="5195880"/>
            <a:ext cx="281952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роцессе вкатывания следует различать 2 этап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До критической точ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Выше критической точ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66280" y="162000"/>
            <a:ext cx="83343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f89"/>
                </a:solidFill>
                <a:latin typeface="Arial"/>
              </a:rPr>
              <a:t>Специфика критериев</a:t>
            </a:r>
            <a:endParaRPr b="0" lang="en-US" sz="1800" spc="-1" strike="noStrike">
              <a:solidFill>
                <a:srgbClr val="073f89"/>
              </a:solidFill>
              <a:latin typeface="Arial"/>
            </a:endParaRPr>
          </a:p>
        </p:txBody>
      </p:sp>
      <p:sp>
        <p:nvSpPr>
          <p:cNvPr id="162" name="Прямоугольник 4"/>
          <p:cNvSpPr/>
          <p:nvPr/>
        </p:nvSpPr>
        <p:spPr>
          <a:xfrm>
            <a:off x="247680" y="703440"/>
            <a:ext cx="858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Как работает комбинированный показатель устойчивости по вкатыван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5184720" y="1200240"/>
            <a:ext cx="3272040" cy="2109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627120" y="3102120"/>
            <a:ext cx="3967200" cy="9252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0" y="43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3"/>
          <a:stretch/>
        </p:blipFill>
        <p:spPr>
          <a:xfrm>
            <a:off x="588960" y="1338120"/>
            <a:ext cx="3262320" cy="170820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24"/>
          <p:cNvSpPr/>
          <p:nvPr/>
        </p:nvSpPr>
        <p:spPr>
          <a:xfrm>
            <a:off x="504720" y="4098960"/>
            <a:ext cx="4164120" cy="2012040"/>
          </a:xfrm>
          <a:prstGeom prst="rect">
            <a:avLst/>
          </a:prstGeom>
          <a:noFill/>
          <a:ln w="936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Выв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Показатель, основанный на нормировочном коэффициенте Надаля, не способен обеспечить точную оценку момента перехода гребневого контакта колеса с рельсом в критическую точку и последующий процесс вкатывания. Такая оценка возможна при использовании комбинированного коэффициента устойчивости КУ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DerailTep70.avi" descr=""/>
          <p:cNvPicPr/>
          <p:nvPr/>
        </p:nvPicPr>
        <p:blipFill>
          <a:blip r:embed="rId4"/>
          <a:stretch/>
        </p:blipFill>
        <p:spPr>
          <a:xfrm>
            <a:off x="4861080" y="3567240"/>
            <a:ext cx="3895560" cy="25477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16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6T15:43:38Z</dcterms:created>
  <dc:creator>Pogorelov</dc:creator>
  <dc:description/>
  <dc:language>en-US</dc:language>
  <cp:lastModifiedBy>Mikheev</cp:lastModifiedBy>
  <dcterms:modified xsi:type="dcterms:W3CDTF">2014-04-09T05:36:54Z</dcterms:modified>
  <cp:revision>640</cp:revision>
  <dc:subject/>
  <dc:title>Содержание</dc:title>
</cp:coreProperties>
</file>