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4DF-A4D1-48AB-BD97-887928FA4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аемые участники конференци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аемый председател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ему вниманию предлагается доклад на тему «…», его авторы являются сотрудниками Rostov State Transport University, Rostov-on-Don, 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 A. Zarifian (перед вами), профессор кафедры «Локомотивы», N. Grebennikov – мой аспира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 посвящен рассмотрению вопроса об улучшении характеристик генератора путем замены его ротора, при этом статор остается преж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A14-81D9-4257-9B92-8CF3D9938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ы энергетические диаграммы генератора в конфигурациях 18/12 и 18/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- в конфигурации 18/12 , наверху – угловая скорость вращения ротора 50 рад/с, внизу – 150 рад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а - в конфигурации 18/15, наверху – угловая скорость вращения ротора 40 рад/с, внизу – 120 рад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штрихованная область представляет собой механическую энергию, преобразованную генератором в электрическую (так называемая коэнерг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идно из таблицы, за одну коммутацию коэнергия в «старой» конфигурации 18/12 больше, чем в «новой» конфигурации 18/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за один оборот коэнергия в старом варианте меньше, чем в но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энергоэффективность генератора в новой конфигурации несколько вы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652-9371-483B-AF32-24FEAAC4B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ервом плакате представлен опытный образец подвагонного вентильно-индукторного генератора мощн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Вт,  который спроектирован и изготовлен в РГУПС. Он предназначен для вагонов-рефрижер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имеет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nfiguration 18/12 (18 poles on stator, 12 poles on rotor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8 concentrated coils are located on stator (six coils per phase located at stator poles at an angle of 60 degrees between them.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ssive rotor has neither windings no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llec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генератор находится на испытаниях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mmissioning tests showed, the drawbacks of such configuration are significant electromagnetic torque jittering and high level of noise and vib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ариант генератора, предназначенный для пассажирских вагонов, должен быть доработан в точки зрения снижения шума и вибраций. По экономическим соображениям, было решено сохранить прежний статор, но поставить другой ро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17D1-AB29-4046-8964-F9F4FB1CD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варительной проработки конструкции была разработана  компьютерная модель пассажирского вагона модель 4440 с генератором как единой электромеханическ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экипажной части создана в программном комплексе «Унимерсальный Механизм», версия 6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а компьютерная модель пассажирского вагона, состоящая из кузова и двух двухосных тележек. Все параметры модели соответствуют реальной констру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277-F2F4-4690-A840-DFAEFF22A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слева показана анимация движения пассажирского вагона модели 4440, оснащенного генераторо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а показаны касательные усилия в контакте «колесо – рельс» для всех четырех колесных па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на продольная составляющая сил для колесной пары, которая приводит во вращение ротор генерат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910-C6D4-46F0-953F-AF0FC876E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а принципиальная схема шестифазного вентильно-индукторного  генератора конфигурации 18/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нное напряжение фаз А, … 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рямляется в силовом преобразователе и поддерживается постоянным. Величина постоянного напряжения определяется в соответствии с подключенной нагрузкой (на плакате не показана) при помощи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1C0-66D9-4D61-8FAC-F7A6443D0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ы сечения генератора в «старом» и «новом» вариан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G was upgraded by increasing the number of phases from 3 to 6 and retaining the prior stator with changes in coil connection only. One phase comprises now of 3 coils located at stator poles at the angle of 120 deg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phase number till 6 was achieved by replacement of 12 poles rotor with 15 poles rotor, thus the proposed SRG has configuration 18/15. However, rotor tooth form remains the same with the reduction of space between pole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BDF6-3F47-4114-B77B-25386ED2A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а картина электромагнитного поля для «старой» конфигурации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8/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лева) и «новой» конфигурации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8/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(справ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но, что  для «старой» конфигурации  происходит взаимодействие шести пар зубьев, а для «новой» конфигурации – девяти пар зубьев. Соответственно, можно ожидать, что «новая» конфигурация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8/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 обеспечит более плавную работу генератора и лучшие энергетические показа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а также анимация электромагнитных полей (показать отдель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D423-C072-487B-AB5B-8F428A4C7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кате показано изменение электромагнитного момента генератора: черный цвет – для старой конфигурации 18/12, красный цвет – для новой конфигурации 18/15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вой конфигурации пульсации момента имеют гораздо меньший размах (в 3 раза) и большую частоту (в 2 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174-EF6E-4EC4-9CC7-7701EA922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5B4-0691-4708-976C-F1507E1D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337-2A79-4387-BC70-01CBE385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E23-DCCF-4133-9114-A591E215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123-234A-4A35-A781-33938FA0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88E-83EC-43C1-9B12-1A4C22C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2D5-DD97-4F20-82E6-BAC1C005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14A-0228-41E4-80AC-AC75AD3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D4B-A192-4C44-9038-D072101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920-1876-4CF8-B160-CE7D26D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CCC-B3FF-4C99-B84C-9EC9E49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256-CE8C-4F1C-88AF-19470A2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D26-2E25-4375-AED6-1106A28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F5F4-88B5-4F31-BD09-A386BDD24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olpahchyan@mail.ru" TargetMode="External"/><Relationship Id="rId2" Type="http://schemas.openxmlformats.org/officeDocument/2006/relationships/hyperlink" Target="mailto:andrewa62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14968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925920" y="1859760"/>
            <a:ext cx="72673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ЬЮТЕРНОЕ МОДЕЛИРОВАНИЕ В ЖЕЛЕЗНОДОРОЖНОМ ТРАНСПОРТ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Ы ДИНАМИКИ, ПРОЧНОСТИ И ИЗН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-10 апреля 2014, БГТУ, Брянск, Росс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2748240"/>
            <a:ext cx="9144000" cy="18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МОДЕЛЬ СКОРОСТНОГО ПАССАЖИРСКОГО ЭЛЕКТРОВОЗ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ИНХРОННЫМ ТЯГОВЫМ ПРИВ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.Г. Колпахчьян </a:t>
            </a:r>
            <a:r>
              <a:rPr b="0" lang="en-US" sz="14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.А. Андрющенко </a:t>
            </a:r>
            <a:r>
              <a:rPr b="0" lang="ru-RU" sz="14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А.А. Зарифьян (мл.)</a:t>
            </a:r>
            <a:r>
              <a:rPr b="0" lang="en-US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, 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вский государственный университет путей сооб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111111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П «ТРТранс»  ТМХ - </a:t>
            </a:r>
            <a:r>
              <a:rPr b="0" i="1" lang="en-US" sz="1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Al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214800" y="444600"/>
            <a:ext cx="271440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hh.ru/employer-logo/389489.jpeg"/>
          <p:cNvPicPr/>
          <p:nvPr/>
        </p:nvPicPr>
        <p:blipFill>
          <a:blip r:embed="rId3"/>
          <a:stretch/>
        </p:blipFill>
        <p:spPr>
          <a:xfrm>
            <a:off x="3492360" y="5300640"/>
            <a:ext cx="2160720" cy="59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sdelanounas.ru/i/c/m/cmVvc3RhdC5ydS9fcGljdHVyZXMvZGVhbGVyL3RyYW5zbWFzaGhvbGRpbmcuanBn.jpg"/>
          <p:cNvPicPr/>
          <p:nvPr/>
        </p:nvPicPr>
        <p:blipFill>
          <a:blip r:embed="rId4"/>
          <a:stretch/>
        </p:blipFill>
        <p:spPr>
          <a:xfrm>
            <a:off x="6084720" y="4941720"/>
            <a:ext cx="2105280" cy="1155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5"/>
          <p:cNvSpPr/>
          <p:nvPr/>
        </p:nvSpPr>
        <p:spPr>
          <a:xfrm>
            <a:off x="0" y="21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6878520" cy="2365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1"/>
          <p:cNvSpPr/>
          <p:nvPr/>
        </p:nvSpPr>
        <p:spPr>
          <a:xfrm>
            <a:off x="395280" y="404640"/>
            <a:ext cx="842472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одел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разработанной модели был выполнен анализ динамических процессо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ипажной части электровоза в режиме выбега и тя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 анализ взаимодействия АТП с экипажной частью локомотива и с системой тяговог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снабжения в режиме тяги при различных условиях: движение по прямой и в крив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гоне и поддержании скорости, возникновение и ликвидация боксования, совместная рабо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астке тягового электроснабжения с другими электровоз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использования описанной математической модели приведены результаты расчетов, полученные при питании электровоза от контактной сети постоянного тока. Расчеты выполнены при следующих условиях. Электровоз движется по прямому участку пути с микронеровностями, соответствующими хорошему состоянию. Скорость движения равна 150 км/ч и во время моделирования не меняется. На рисунке а показаны зависимости линейного напряжения и фазного тока АТД первого по движению КМБ, на рис  б – электромагнитного момента этого двиг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000" y="333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иведены результаты моделирования процессов при переходе от тяги к выбегу и обратно. На рис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н электромагнитный момент, на рис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гловая скорость вращения ротора АТД первого по движению КМБ. Также, на этом рисунке показаны зависимости продольных и вертикальных сил в контакте «колесо-рельс»  первой по движению колесной пары (КП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900000" y="1438200"/>
            <a:ext cx="7596360" cy="5102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404640"/>
            <a:ext cx="828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расчет был выполнен для более подробного исследования процессов, возникающих при переходе от выбега к тяге, на скорости 150 км/ч. Питание от сети переменного тока. Установлен тяговый редуктор для варианта исполнения электровоза 200 км/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224160" cy="517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168720" cy="5527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071720" y="1295640"/>
            <a:ext cx="7670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ая компьютерная модель скоростного пассажирского электровоза позволила сократить сроки и стоимость проектных работ. В дальнейшем планируется ее развитие и применение при создании новых электрово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выражают благодарность к.т.н. Ю.А. Орлову, генеральному директору филиала СП «ТРТранс» в г. Новочеркасске, за внимание к работе в процессе ее выполнения и обсуждение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56080" y="548640"/>
            <a:ext cx="77173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ющенко, А.А. Разработка экипажной части скоростного пассажирского электровоза с асинхрон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говым приводом: Автореферат  диссертации на соискание ученой степени кандидата технических наук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в-на-Дону, РГУПС, 2013.</a:t>
            </a:r>
            <a:r>
              <a:rPr b="0" lang="ru-RU" sz="12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www.rgups.ru/ar/avt_ref_Andrushenko.doc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ические процессы в асинхронном тяговом приводе магистральных электровозов / Ю.А. Бахвал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А. Бузало, А.А. Зарифьян, П.Г. Колпахчьян, П.Ю. Петров, Л.Н. Сорин, В.П. Янов. – М.: Маршрут, 2006. – 37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]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нхронный тяговый привод локомотивов / А.А. Андрющенко, Ю.В. Бабков, А.А. Зарифьян, Г.Ф. Кашник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Г. Колпахчьян, К.С. Перфильев, П.Ю. Петров, В.П. Янов. – М.: УМЦ ЖДТ, 2013. – 41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Computer modeling of electric locomotive as controlled electromechanical system / A.A. Zarifian, P.G. Kolpahchyan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body System Dynamics, 2009. – V.22, №4 – P. 425-4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976120" y="911160"/>
            <a:ext cx="350604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нтакт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</a:rPr>
              <a:t>Колпахчьян Павел Григорь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E-mail: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olpahchyan@mail.ru</a:t>
            </a:r>
            <a:r>
              <a:rPr b="0" lang="en-US" sz="16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</a:rPr>
              <a:t>Андрющенко Андрей Александ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E-mail: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andrewa62@mail.ru</a:t>
            </a:r>
            <a:r>
              <a:rPr b="0" lang="fr-FR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</a:rPr>
              <a:t>Зарифьян Александр Александ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E-mail: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</a:t>
            </a:r>
            <a:r>
              <a:rPr b="0" lang="fr-FR" sz="1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ZarifyanAA@nevz.com</a:t>
            </a:r>
            <a:r>
              <a:rPr b="0" lang="fr-FR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Tel.:   +7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9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04</a:t>
            </a: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34794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52520" y="842760"/>
            <a:ext cx="8270280" cy="31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аботка проекта средствами САП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акета UM для оценки динамических характерис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инхронный тяговый при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роцессов в силовых электрических цепях в пакет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 Simu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модель электровоза как управляемой электромеханическ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одел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воз, асинхронный тяговый привод, динамические процессы, компьютерное моде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179280" y="185400"/>
            <a:ext cx="8785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асинхронного тягового электропривода (АТП) на электроподвижном составе существенным образом влияет на основные показатели локомотивов. Как следствие, возникает целый комплекс проблем, связанных с необходимостью создания экипажной части, способной в полной мере реализовать преимущества АТП. При проектировании необходимо учитывать высокую степень взаимосвязи и взаимного влияния процессов в АТП и экипажной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бозначенных проблем требует, опираясь на имеющийся опыт, дальнейшего развития научног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ения разработок скоростного подвижного состава нового поколения, что позволит исследовать сложные процессы в экипажной части электровоза на ранних стадиях проектных работ и по возможности избежать изготовления дорогостоящих макетных образцов.  Применение современных методов динамических и прочностных расчетов позволяет сократить  сроки проектных работ и повыси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ую надёжность  экипажной части электров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4017240" y="3085200"/>
            <a:ext cx="110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trainpix.org/photo/00/80/01/80012.jpg"/>
          <p:cNvPicPr/>
          <p:nvPr/>
        </p:nvPicPr>
        <p:blipFill>
          <a:blip r:embed="rId1"/>
          <a:srcRect l="11811" t="30859" r="8452" b="13858"/>
          <a:stretch/>
        </p:blipFill>
        <p:spPr>
          <a:xfrm>
            <a:off x="755640" y="3357720"/>
            <a:ext cx="77770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468360" y="549360"/>
            <a:ext cx="8286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аботка проекта средствами САП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ектировании новых электровозов широко используются методы и средства САПР. При разработке нового скоростного пассажирского электровоза трехмерные чертежи (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дели) основных элементов конструкции создавались в пакете КОМПАС-3D. Затем сборка основных узлов поэтапно производилась в средах CATIA и SolidWork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же была выполнена развесовка электровоза и ряд других операций. Готовые чертежи в бумажном виде оформлялись как конструкторская документация, а в электронном виде передавались на производство, где станки с ЧПУ изготовляли соответствующие детали и уз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246720" cy="325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684360" y="333360"/>
            <a:ext cx="8072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акета UM для оценки динамических характерис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динамических характеристик проектируемого электровоза был применен пакет «Универсальный Механизм». Механическая часть электровоза была представлена как система подвижно соединенных твердых тел, причем рассматривались два варианта: с осевыми формулами 2о-2о-2о и 3о-3о. Графические образы тел, входящих в состав модели, и их массо-инерционные характеристики импортировались из моделей, разработанных в КОМПАС-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компьютерного моделирования вплоть до конструкционной скорости 200 км/ч, было установлено, что осевая формула 2о-2о-2о по совокупности показателей имеет преимущество, и для серийного производства был выбран вариант с такой осевой формулой. Ходовые испытания построенного электровоза в различных условиях движения, во всем диапазоне скоростей, подтвердили достоверность результатов компьютерного моделирования в пакете УМ-Ло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отметим, что применение компьютерного моделирования позволило отказаться от изготовления натурного макета электровоза и проведения его испытаний, в результате чего были сокращены сроки проектных работ и сэкономлены значительные сред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328920"/>
          <a:ext cx="6096240" cy="200160"/>
        </p:xfrm>
        <a:graphic>
          <a:graphicData uri="http://schemas.openxmlformats.org/drawingml/2006/table">
            <a:tbl>
              <a:tblPr/>
              <a:tblGrid>
                <a:gridCol w="2967120"/>
                <a:gridCol w="3129120"/>
              </a:tblGrid>
              <a:tr h="2001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4176720" cy="19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4032360" cy="1640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800280" y="571680"/>
            <a:ext cx="764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инхронный тяговый при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воз двойного питания (=3 кВ и ~25 кВ, 50 Гц) имеет индивидуальное (поосное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тяговых двигателей. Показана расчетная схема электрических цепей АТП од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. Параметры АТП соответствуют реальным параметрам электровоза ЭП20. Моменты тягов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ей приложены к роторам, входящим в состав модели механической част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01" descr=""/>
          <p:cNvPicPr/>
          <p:nvPr/>
        </p:nvPicPr>
        <p:blipFill>
          <a:blip r:embed="rId1"/>
          <a:stretch/>
        </p:blipFill>
        <p:spPr>
          <a:xfrm>
            <a:off x="960480" y="2286000"/>
            <a:ext cx="318276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0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946680" cy="1214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58800" y="3791880"/>
            <a:ext cx="757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                                                                       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ная схема электрических цепей АТП одной оси при питании от сети постоянного тока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 сети переменного тока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тевой дроссель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ильтр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втономный инвертор напряж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яговый трансформатор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тель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синхронный тяговый двига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900000" y="115920"/>
            <a:ext cx="75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роцессов в силовых электрических цепях и отладка алгоритмов управления в пакет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 Simu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78640" cy="255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053400" cy="280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1"/>
          <p:cNvPicPr/>
          <p:nvPr/>
        </p:nvPicPr>
        <p:blipFill>
          <a:blip r:embed="rId1"/>
          <a:stretch/>
        </p:blipFill>
        <p:spPr>
          <a:xfrm>
            <a:off x="2071800" y="1000080"/>
            <a:ext cx="5230800" cy="5072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503280" y="406800"/>
            <a:ext cx="723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мпьютерная модель электровоза как управляемой электромеханическ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2214720" y="6143760"/>
            <a:ext cx="49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кузов; 2, 3, 4 – теле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298440" y="1786680"/>
            <a:ext cx="8564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силовых цепей электровоза обусловливает высокую степень взаимодействия и взаимног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я тяговых двигателей и преобразовательных устройств на разных уровнях. С учетом специф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мых задач, модель АТД построена на основе теории обобщенной электрической машины. Примене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го подхода позволяет решать задачи анализа взаимодействия АТП и экипажной части в большинств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сплуатационных режи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 компьютерная модель электровоза как управляемой электромеханической системы созда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кет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ерспективы открываются в связи с применением параллельных вычисл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5:29:15Z</dcterms:created>
  <dc:creator>Admin</dc:creator>
  <dc:description/>
  <dc:language>en-US</dc:language>
  <cp:lastModifiedBy>Lenya</cp:lastModifiedBy>
  <dcterms:modified xsi:type="dcterms:W3CDTF">2014-04-07T17:46:58Z</dcterms:modified>
  <cp:revision>203</cp:revision>
  <dc:subject/>
  <dc:title>Динамика единиц подвижного состава, оснащенного вентильно-индукторной установкой</dc:title>
</cp:coreProperties>
</file>