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86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16.wmf" ContentType="image/x-wmf"/>
  <Override PartName="/ppt/media/image81.wmf" ContentType="image/x-wmf"/>
  <Override PartName="/ppt/media/image11.png" ContentType="image/png"/>
  <Override PartName="/ppt/media/image51.wmf" ContentType="image/x-wmf"/>
  <Override PartName="/ppt/media/image23.png" ContentType="image/png"/>
  <Override PartName="/ppt/media/image63.wmf" ContentType="image/x-wmf"/>
  <Override PartName="/ppt/media/image60.wmf" ContentType="image/x-wmf"/>
  <Override PartName="/ppt/media/image88.wmf" ContentType="image/x-wmf"/>
  <Override PartName="/ppt/media/image20.png" ContentType="image/png"/>
  <Override PartName="/ppt/media/image61.wmf" ContentType="image/x-wmf"/>
  <Override PartName="/ppt/media/image62.wmf" ContentType="image/x-wmf"/>
  <Override PartName="/ppt/media/image22.png" ContentType="image/png"/>
  <Override PartName="/ppt/media/image26.wmf" ContentType="image/x-wmf"/>
  <Override PartName="/ppt/media/image27.wmf" ContentType="image/x-wmf"/>
  <Override PartName="/ppt/media/image64.wmf" ContentType="image/x-wmf"/>
  <Override PartName="/ppt/media/image24.png" ContentType="image/png"/>
  <Override PartName="/ppt/media/image65.wmf" ContentType="image/x-wmf"/>
  <Override PartName="/ppt/media/image90.png" ContentType="image/png"/>
  <Override PartName="/ppt/media/image25.png" ContentType="image/png"/>
  <Override PartName="/ppt/media/image66.wmf" ContentType="image/x-wmf"/>
  <Override PartName="/ppt/media/image67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35.png" ContentType="image/png"/>
  <Override PartName="/ppt/media/image84.wmf" ContentType="image/x-wmf"/>
  <Override PartName="/ppt/media/image72.wmf" ContentType="image/x-wmf"/>
  <Override PartName="/ppt/media/image83.wmf" ContentType="image/x-wmf"/>
  <Override PartName="/ppt/media/image69.wmf" ContentType="image/x-wmf"/>
  <Override PartName="/ppt/media/image71.wmf" ContentType="image/x-wmf"/>
  <Override PartName="/ppt/media/image29.wmf" ContentType="image/x-wmf"/>
  <Override PartName="/ppt/media/image8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7.wmf" ContentType="image/x-wmf"/>
  <Override PartName="/ppt/media/image76.wmf" ContentType="image/x-wmf"/>
  <Override PartName="/ppt/media/image40.wmf" ContentType="image/x-wmf"/>
  <Override PartName="/ppt/media/image6.png" ContentType="image/png"/>
  <Override PartName="/ppt/media/image91.png" ContentType="image/png"/>
  <Override PartName="/ppt/media/image12.png" ContentType="image/png"/>
  <Override PartName="/ppt/media/image52.wmf" ContentType="image/x-wmf"/>
  <Override PartName="/ppt/media/image74.wmf" ContentType="image/x-wmf"/>
  <Override PartName="/ppt/media/image4.png" ContentType="image/png"/>
  <Override PartName="/ppt/media/image73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8.jpeg" ContentType="image/jpeg"/>
  <Override PartName="/ppt/media/image55.wmf" ContentType="image/x-wmf"/>
  <Override PartName="/ppt/media/image57.wmf" ContentType="image/x-wmf"/>
  <Override PartName="/ppt/media/image5.png" ContentType="image/png"/>
  <Override PartName="/ppt/media/image17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10.png" ContentType="image/png"/>
  <Override PartName="/ppt/media/image7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3F8-2062-497B-A6B2-DC1DEBD3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096-9DC1-42D6-BDC2-107904FD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25F-0531-48DD-98D4-D876B18A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63B-3334-49DE-8746-C36AC5E5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F270-FAAA-4897-832E-E0942DC0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5257-534D-4A9B-BDE9-44BC23A0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9107-FFAD-4120-AE71-CE1A5508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1E57-EB4B-43A2-8261-B5027C26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D06C-66BE-431B-B054-E1F88CA8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66E-17A2-44F1-8E93-72415E13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AC63-C079-4552-8E53-A42C52B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2C7-723F-4BF3-B339-9F5AEC85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17DE-79F7-4695-BC08-16CE773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2E30-662A-4DEE-9439-2662D95F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3777-A329-42BB-9F51-ED158B7B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695E-6A96-49D1-8D17-D29BBBDC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16A5-6083-43D2-99BB-17A89B33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A1F-BB37-4C4F-930D-A4AC736C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DDA-2BFC-43A6-BE78-8256BA99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610-FE96-4432-BA22-3861A62A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E56-3BC2-47F3-9859-7C55E24E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BFE-6EA7-47DA-AB63-0B3BE8E1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32F-B310-4B8C-8A34-2466C0C6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D64-3EB7-47EE-B0A4-1D5F0E6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1660-69F7-441D-96F3-770C6DA69C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88440" y="73080"/>
            <a:ext cx="62064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A4B8-C163-48AF-BDAD-355617BB41B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F7F7-5781-4EE1-8005-EA6C1B9E15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88440" y="73080"/>
            <a:ext cx="62064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70CD-A78B-4FA0-8546-AFCEB25E2E5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65.wmf"/><Relationship Id="rId19" Type="http://schemas.openxmlformats.org/officeDocument/2006/relationships/image" Target="../media/image66.wmf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341360"/>
            <a:ext cx="7848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остюкевич А. И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Цыгановский И. А. 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ВНУ им. В. Даля, Луганск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7416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оделирование фрикционного взаимодействия колесной пары с рельсовой кол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6165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рянск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едостатки алгоритма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ASTSIM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. Модификации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ASTSI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590560" cy="2016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95280" y="4016160"/>
            <a:ext cx="266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езультаты расчета с помощью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ASTSIM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и измерений коэффициента сцепле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ля локомотива Siemens Eurosprinter 127001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чистое продольное скольжение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ollebreght, 2013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2637000"/>
            <a:ext cx="863640" cy="792000"/>
          </a:xfrm>
          <a:prstGeom prst="rightArrow">
            <a:avLst>
              <a:gd name="adj1" fmla="val 50000"/>
              <a:gd name="adj2" fmla="val 2726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50120" y="2421000"/>
            <a:ext cx="54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заниженное значение угла накл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сходящей ветви  характеристики сце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53360" y="3068640"/>
            <a:ext cx="563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отсутствие падающей ветви (при достиж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ритического скольжения коэффициент тр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итается констант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39640" y="4648320"/>
            <a:ext cx="2448000" cy="1805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390280" y="198900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едост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07360" y="407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ифика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SIM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53280" y="6497640"/>
            <a:ext cx="16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пирягин – Полах (201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7000" y="4556160"/>
            <a:ext cx="606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корректировки восходящей ветви –  умножение коэффициентов Калк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масштабный коэффициент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68720" y="501336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оделирования падения сцепления – использование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онов анизотропного трения, например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iotrowski, 2010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64000" y="5445000"/>
                <a:ext cx="1295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т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959360" y="5516640"/>
                <a:ext cx="333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334120" y="5445000"/>
                <a:ext cx="3902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084720" y="5589720"/>
                <a:ext cx="16290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т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Определение зависимости коэффициента трения от температуры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311640" cy="2530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23000" y="18446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шина т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4869000"/>
            <a:ext cx="3456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  -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разгонное устройство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- ориентирующий уз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- измерительный узел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– микропроцессорный измерительный блок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89480" y="1916280"/>
            <a:ext cx="475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Зависимости коэффициента трения от температуры в контак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067280" y="2349360"/>
            <a:ext cx="2305080" cy="1285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6443640" y="2349360"/>
            <a:ext cx="2521080" cy="12970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462920" y="3645000"/>
            <a:ext cx="144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Рельс чистый, сух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31600" y="368928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Рельс влаж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16920" y="5300640"/>
            <a:ext cx="179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Рельс покрыт смазкой М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6732720" y="4005360"/>
            <a:ext cx="2158920" cy="17636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659640" y="5805360"/>
            <a:ext cx="24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Зависимость коэффициента тре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от температур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(Крагельский,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3995640" y="3933720"/>
            <a:ext cx="266544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Этапы решения задачи взаимодействия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лесной пары с рельсовой колее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927520" cy="46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ирование отжатия (поворота) головки рель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3357720"/>
            <a:ext cx="232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Рельсовое скрепление КБ65 на железобетонных шпалах с рельсами типов Р65 и Р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1800360" cy="13608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627280" y="2104920"/>
            <a:ext cx="2552760" cy="1684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138720" y="1916280"/>
            <a:ext cx="1746360" cy="1944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45560" y="3933720"/>
            <a:ext cx="272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Трехмерная модель и схема нагруж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4440" y="3933720"/>
            <a:ext cx="206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Конечно - элементная мод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395280" y="4221000"/>
            <a:ext cx="2016000" cy="19051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6200" y="6165720"/>
            <a:ext cx="251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Горизонтальное перемещение узл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наружного рель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916360" y="4365720"/>
          <a:ext cx="169992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4365720"/>
                    <a:ext cx="169992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803920" y="429264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Уравнения регр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7"/>
          <a:stretch/>
        </p:blipFill>
        <p:spPr>
          <a:xfrm>
            <a:off x="4643280" y="4724280"/>
            <a:ext cx="4165920" cy="2462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>
            <a:off x="4643280" y="5084640"/>
            <a:ext cx="3807000" cy="495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9"/>
          <a:stretch/>
        </p:blipFill>
        <p:spPr>
          <a:xfrm>
            <a:off x="4643280" y="5661000"/>
            <a:ext cx="40611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оиск точек начального касания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и перераспределения нагрузок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1871640" cy="1541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95280" y="2133720"/>
            <a:ext cx="23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Поиск точек начального кас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755640" y="3860640"/>
                <a:ext cx="1219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лев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sSub>
                      <m:e>
                        <m: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а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4392720" cy="1701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09440" y="1916280"/>
            <a:ext cx="263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Расчет перераспределения нагруз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524720" y="2205000"/>
            <a:ext cx="817560" cy="4208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7093080" y="2852640"/>
            <a:ext cx="1838160" cy="4921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468360" y="4869000"/>
            <a:ext cx="2905200" cy="1180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38000" y="4508640"/>
            <a:ext cx="23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Система уравнений равнове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4140360" y="4076640"/>
            <a:ext cx="4176720" cy="1844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760200" y="5950080"/>
            <a:ext cx="50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Двухточечный контакт нового колеса (ГОСТ 11018-2000) и нового рельса Р65 (ГОСТ Р51685-2000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Вертикальная нагрузка на ось: 230 кН. Боковая нагрузка: 1 кН - 120 к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Определение функции начального зазора и коэффициентов влия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2205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согласованные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950360" y="2205000"/>
            <a:ext cx="34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гласованные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859280" y="3141720"/>
          <a:ext cx="3600360" cy="19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141720"/>
                    <a:ext cx="360036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Определение коэффициентов влия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71640" y="2060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согласованные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22000" y="2060640"/>
            <a:ext cx="34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гласованные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2000" y="2421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ерхность катания (решение Буссинэ - Черру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2421000"/>
            <a:ext cx="30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ыкружка рельса (модификация решения Кельви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1836720" cy="2232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2592360" cy="7538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292720" y="3789360"/>
            <a:ext cx="2881440" cy="7095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5364000" y="4508640"/>
            <a:ext cx="2808360" cy="684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1619280" y="5516640"/>
            <a:ext cx="61149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79280" y="4508640"/>
            <a:ext cx="3313080" cy="20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нтактная задача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аналитическая постановка)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39640" y="2031840"/>
            <a:ext cx="495360" cy="1908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411360" y="2016000"/>
            <a:ext cx="6840720" cy="243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539640" y="2276640"/>
            <a:ext cx="533520" cy="180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2508120" y="2224080"/>
            <a:ext cx="6840720" cy="2048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5492880" y="2232000"/>
            <a:ext cx="6840360" cy="2048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3348000" y="2492280"/>
            <a:ext cx="2695680" cy="1904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7"/>
          <a:stretch/>
        </p:blipFill>
        <p:spPr>
          <a:xfrm>
            <a:off x="684360" y="26924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8"/>
          <a:stretch/>
        </p:blipFill>
        <p:spPr>
          <a:xfrm>
            <a:off x="3708360" y="2700360"/>
            <a:ext cx="533520" cy="190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9"/>
          <a:stretch/>
        </p:blipFill>
        <p:spPr>
          <a:xfrm>
            <a:off x="6804000" y="270828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0"/>
          <a:stretch/>
        </p:blipFill>
        <p:spPr>
          <a:xfrm>
            <a:off x="2001960" y="3013200"/>
            <a:ext cx="1447560" cy="2188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1"/>
          <a:stretch/>
        </p:blipFill>
        <p:spPr>
          <a:xfrm>
            <a:off x="4522680" y="3013200"/>
            <a:ext cx="2371680" cy="2188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875040" y="301320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2"/>
          <a:stretch/>
        </p:blipFill>
        <p:spPr>
          <a:xfrm>
            <a:off x="539640" y="3284640"/>
            <a:ext cx="3009960" cy="8478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3"/>
          <a:stretch/>
        </p:blipFill>
        <p:spPr>
          <a:xfrm>
            <a:off x="322200" y="4581360"/>
            <a:ext cx="6840720" cy="2286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4"/>
          <a:stretch/>
        </p:blipFill>
        <p:spPr>
          <a:xfrm>
            <a:off x="250920" y="4941720"/>
            <a:ext cx="3200400" cy="723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5"/>
          <a:stretch/>
        </p:blipFill>
        <p:spPr>
          <a:xfrm>
            <a:off x="266760" y="5540400"/>
            <a:ext cx="3009960" cy="8478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6"/>
          <a:stretch/>
        </p:blipFill>
        <p:spPr>
          <a:xfrm>
            <a:off x="4067280" y="4581360"/>
            <a:ext cx="3038400" cy="1895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635280" y="5445000"/>
            <a:ext cx="358920" cy="216000"/>
          </a:xfrm>
          <a:prstGeom prst="rightArrow">
            <a:avLst>
              <a:gd name="adj1" fmla="val 50000"/>
              <a:gd name="adj2" fmla="val 4154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65880" y="1995480"/>
            <a:ext cx="24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произвольная точка контактной обла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49320" y="2031840"/>
            <a:ext cx="32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составляющие контактного давления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доль осей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,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x,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84240" y="2232000"/>
            <a:ext cx="143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мпература в точке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50040" y="2228760"/>
            <a:ext cx="26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корости скольжения колеса вдоль осе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x,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45240" y="2660760"/>
            <a:ext cx="24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пругие перемещения поверхностей те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74920" y="2660760"/>
            <a:ext cx="253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ункция начального зазора между тела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07760" y="2652840"/>
            <a:ext cx="188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значение жесткого сближ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09320" y="2228760"/>
            <a:ext cx="305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линейные скорости движения колеса вдоль осе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x,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64920" y="4149720"/>
            <a:ext cx="353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Условия контактного взаим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7"/>
          <a:stretch/>
        </p:blipFill>
        <p:spPr>
          <a:xfrm>
            <a:off x="5195880" y="6500880"/>
            <a:ext cx="2409840" cy="2188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8"/>
          <a:stretch/>
        </p:blipFill>
        <p:spPr>
          <a:xfrm>
            <a:off x="7788240" y="6413400"/>
            <a:ext cx="838080" cy="3906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9"/>
          <a:stretch/>
        </p:blipFill>
        <p:spPr>
          <a:xfrm>
            <a:off x="3924360" y="3573360"/>
            <a:ext cx="714240" cy="1904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635000" y="3516480"/>
            <a:ext cx="34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коэффициент трения, зависящий от температуры в точке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47600" y="3716280"/>
            <a:ext cx="4392720" cy="30258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03640" y="3716280"/>
            <a:ext cx="4104000" cy="302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нтактная задача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дискретный аналог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228600" cy="190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53120" y="206064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количество ячеек вдоль ос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32760" y="206064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количество ячеек вдоль ос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99800" cy="190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200160" cy="1904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81840" y="237348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нормальная составляющая контактного д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24040" y="2708280"/>
            <a:ext cx="41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касательные составляющие контактного д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565200" y="2755800"/>
            <a:ext cx="181080" cy="2192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31880" y="2755800"/>
            <a:ext cx="181080" cy="2383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611280" y="306864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12160" y="298764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температура в ячей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95760" y="486900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5051520" y="3890880"/>
            <a:ext cx="4048200" cy="2562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678640" y="332424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терационный 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8"/>
          <a:stretch/>
        </p:blipFill>
        <p:spPr>
          <a:xfrm>
            <a:off x="243000" y="3860640"/>
            <a:ext cx="4257720" cy="2067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08240" y="3357720"/>
            <a:ext cx="38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истема дискретных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9"/>
          <a:stretch/>
        </p:blipFill>
        <p:spPr>
          <a:xfrm>
            <a:off x="274680" y="5950080"/>
            <a:ext cx="1057320" cy="4190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0"/>
          <a:stretch/>
        </p:blipFill>
        <p:spPr>
          <a:xfrm>
            <a:off x="252360" y="6453360"/>
            <a:ext cx="219240" cy="1904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1"/>
          <a:stretch/>
        </p:blipFill>
        <p:spPr>
          <a:xfrm>
            <a:off x="539640" y="6453360"/>
            <a:ext cx="200160" cy="1904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2"/>
          <a:stretch/>
        </p:blipFill>
        <p:spPr>
          <a:xfrm>
            <a:off x="826920" y="6453360"/>
            <a:ext cx="200160" cy="1904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112040" y="6453360"/>
            <a:ext cx="24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эфициенты матриц подат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а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VDEUNU CONTACT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600360" cy="2600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643280" y="2036880"/>
            <a:ext cx="3529080" cy="25765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024200" y="479736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ходные параме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6600" y="5157720"/>
            <a:ext cx="4072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еометрические характеристики  рельсовой кол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колесной п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х взаимная ориен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грузки на 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метры движения К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рикционн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49760" y="4724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ходные параме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22720" y="5013360"/>
            <a:ext cx="534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угол боковой ка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чки начального кас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а пятна конта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усы кругов к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глы накл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по пятну контакта нормальных и тангенциальны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пряжений,  температуры и работы силы 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екции силы сце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Методы расчета сил сцепления при моделировании динамики Р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4840" y="2276640"/>
            <a:ext cx="87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спользование зависимостей, аппроксимирующих характеристику сце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(Минов, Мюллер, Полах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240" y="3573360"/>
            <a:ext cx="85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Математическое моделирование процесса взаимодействия колеса с рель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1280" y="2997360"/>
                <a:ext cx="8064360" cy="30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ц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un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скорость движения, скольжение, вертикальная нагрузка, коэффициент трения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363120" y="4076640"/>
            <a:ext cx="230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тактная 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1000" y="4797360"/>
            <a:ext cx="2427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рмальная 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2880" y="4789440"/>
            <a:ext cx="2875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ангенциальная 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517356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517356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745600">
            <a:off x="2918520" y="425664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531600">
            <a:off x="5703120" y="425628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" y="5686560"/>
            <a:ext cx="3766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Форма пятна контакта и распреде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ормальных напря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63440" y="5694480"/>
            <a:ext cx="4374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Распределение тангенциальных напряжений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расчет сил сце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08480" y="5805360"/>
            <a:ext cx="503280" cy="287640"/>
          </a:xfrm>
          <a:prstGeom prst="rightArrow">
            <a:avLst>
              <a:gd name="adj1" fmla="val 50000"/>
              <a:gd name="adj2" fmla="val 4374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9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Использование программы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VDEUNU CONTACT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при моделировании динамик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761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зультаты расчетов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учет поперечного отжатия  (поворота головки ) рельса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10240" cy="29304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263240" y="615780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 учета отжатия рель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70240" y="616572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учетом отжатия рель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21920" y="2060640"/>
            <a:ext cx="63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ертикальная нагрузка 115 кН, боковая нагрузка 30 к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42920" y="5589720"/>
                <a:ext cx="12668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5</m:t>
                    </m:r>
                    <m:r>
                      <m:rPr>
                        <m:lit/>
                        <m:nor/>
                      </m:rPr>
                      <m:t xml:space="preserve"> МП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778120" y="5589720"/>
                <a:ext cx="12733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0</m:t>
                    </m:r>
                    <m:r>
                      <m:rPr>
                        <m:lit/>
                        <m:nor/>
                      </m:rPr>
                      <m:t xml:space="preserve"> МП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4938840" y="5684760"/>
                <a:ext cx="12538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54</m:t>
                    </m:r>
                    <m:r>
                      <m:rPr>
                        <m:lit/>
                        <m:nor/>
                      </m:rPr>
                      <m:t xml:space="preserve"> МП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659640" y="5661000"/>
                <a:ext cx="1270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35</m:t>
                    </m:r>
                    <m:r>
                      <m:rPr>
                        <m:lit/>
                        <m:nor/>
                      </m:rPr>
                      <m:t xml:space="preserve"> МП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езультаты расчетов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контакт согласованных поверхностей в зоне выкружки рельса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608360" cy="23256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900000" y="4365720"/>
            <a:ext cx="72583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езультаты расчетов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характеристики сцепления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280160" y="55166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ухие рель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55520" y="5445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масленные рель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4920" y="2349360"/>
            <a:ext cx="4321080" cy="3025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2483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езультаты расчетов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Манчестерский тест динамики, ПК «Универсальный механизм»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19136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езультаты расчетов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моделирование движения локомотива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3166920" cy="1778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89800" y="2205000"/>
            <a:ext cx="340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ежим тяги (локомотив 2ТЭ116, V = 30 м/с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7632720" cy="19954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4464000" cy="12366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3924360" y="2060640"/>
            <a:ext cx="48956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16400" y="3213000"/>
            <a:ext cx="785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7929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Методы решения нормальной задач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7560" y="2884320"/>
            <a:ext cx="2657520" cy="1619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348000" y="4653000"/>
                <a:ext cx="20876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9560" y="4540320"/>
            <a:ext cx="1728720" cy="966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427560" y="3100320"/>
                <a:ext cx="1439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m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P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427560" y="3821040"/>
                <a:ext cx="1511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P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97680" y="198900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ория Герца (1882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3097440" cy="163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96600" y="2997360"/>
            <a:ext cx="393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екорректна в случае когда радиу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ривизны тел в области контак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е являются констан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7929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Методы решения нормальной задач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1916280"/>
            <a:ext cx="669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тоды, основанные на решении Буссинэ – Черут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 сосредоточенной нормальной силы на упругое полупростра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alker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ACT (1990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187344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11280" y="4149720"/>
                <a:ext cx="1657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E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</m:num>
                      <m:den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11280" y="4724280"/>
                <a:ext cx="1657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E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y</m:t>
                        </m:r>
                      </m:num>
                      <m:den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55640" y="5300640"/>
                <a:ext cx="1152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πE</m:t>
                        </m:r>
                      </m:den>
                    </m:f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338720" y="3797280"/>
            <a:ext cx="27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tu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HERTZ (2007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2200" y="263700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Медленные» алгорит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33400" y="436572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Быстрые» алгорит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46040" y="4941720"/>
            <a:ext cx="28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ik – Piotrowski (1996,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29120" y="565308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otrowski - Chollet (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627280" y="4726080"/>
            <a:ext cx="3097080" cy="1758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813640" y="5286240"/>
            <a:ext cx="27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горело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зыко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200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53400" y="3068640"/>
            <a:ext cx="435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лубенко, вариационный метод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98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7932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нтакт гребня колеса и выкружки рель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933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лое различие между размерами радиусов выкружки гребня колеса и рель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9800" y="4365720"/>
            <a:ext cx="82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измеримость размеров радиусов с размерами контактных площ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21920" y="4869000"/>
            <a:ext cx="43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ятно контакта не является пло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133720" cy="1143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76720" y="2205000"/>
            <a:ext cx="1981080" cy="1085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867280" y="2205000"/>
            <a:ext cx="1838520" cy="1209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624480" y="35002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ысюк 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5300640"/>
            <a:ext cx="64944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2240" y="5877000"/>
            <a:ext cx="83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ппроксимация тел упругими полупространствами в этом случае приво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 значительным погрешностям в вычислениях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ковлев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963], [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Vollebreg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2013]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7932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Взаимное влияние тангенциальных и нормальных напряжени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95640" y="2349360"/>
                <a:ext cx="4676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d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d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E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sub>
                        </m:sSub>
                        <m:r>
                          <m:t xml:space="preserve">d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d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96160" y="198900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ница упругих перемещений точек двух тел для полупростран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08560" y="2852640"/>
            <a:ext cx="60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сли материалы колеса и рельса одинаковы, то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303280" cy="1569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203640" y="4724280"/>
            <a:ext cx="2638440" cy="1762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012000" y="4724280"/>
            <a:ext cx="2504880" cy="1762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160800" y="3300480"/>
            <a:ext cx="57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делирование воздействия единич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ангенциального усилия: цилиндр и впа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SYS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7932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Влияние отжатия рельса на положение и НДС пятна контак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398760" cy="35272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3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11280" cy="3020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50200" y="5805360"/>
            <a:ext cx="65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Контакт колеса и рельса с учетом (Случай 2)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ез учета (Случай 2) бокового отжатия рельса (Голубенко,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Методы решения тангенциальной задач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6560" y="4222800"/>
                <a:ext cx="1308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ψ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66560" y="4797360"/>
                <a:ext cx="1320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ψ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95640" y="4294080"/>
                <a:ext cx="147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ψy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38000" y="184464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 Рейнольд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1872000" cy="1265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363120" y="216864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она сцеп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364000" y="2168640"/>
                <a:ext cx="8654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μ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215520" y="26002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она сколь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64000" y="2492280"/>
                <a:ext cx="1152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μσ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356000" y="3213000"/>
                <a:ext cx="2376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μ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E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μσ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042920" y="335772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ение Картера (1926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95760" y="393372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SI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алкер, 19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90880" y="4998960"/>
            <a:ext cx="143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v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65444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95640" y="4797360"/>
                <a:ext cx="1486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ψx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156360" y="4254480"/>
                <a:ext cx="2085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ψ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203880" y="4846680"/>
                <a:ext cx="27147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506920" y="46292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44600" y="5884920"/>
                <a:ext cx="208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μ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υ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31200" y="5373720"/>
            <a:ext cx="33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H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ac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19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9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575080" y="5829480"/>
                <a:ext cx="10080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Pμ</m:t>
                        </m:r>
                      </m:den>
                    </m:f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0" y="5765760"/>
            <a:ext cx="3672000" cy="884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823920" y="537372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SIMA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грелов-Языков,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Сравнение теоретических и экспериментальных характеристик сцепл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456000" cy="2192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50920" y="486900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Характеристики сцеплен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построенные с помощью подпрограмм </a:t>
            </a:r>
            <a:r>
              <a:rPr b="0" lang="uk-UA" sz="1000" spc="-1" strike="noStrike">
                <a:solidFill>
                  <a:srgbClr val="000000"/>
                </a:solidFill>
                <a:latin typeface="Tahoma"/>
              </a:rPr>
              <a:t>FASTSIM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H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для различных значений коэффициента трения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292720" y="2230560"/>
            <a:ext cx="3384720" cy="2493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083840" y="321300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28480" y="4814280"/>
            <a:ext cx="506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Характеристики сцепления для различных фрикционных состояний рельс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полученные в результате четырехлетней программы исследова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зависимости между сцеплением и скольжением в системе «колесо - рельс»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представленные фирмой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M5 (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ША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(1980 г.)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3:11:41Z</dcterms:created>
  <dc:creator> </dc:creator>
  <dc:description/>
  <dc:language>en-US</dc:language>
  <cp:lastModifiedBy> </cp:lastModifiedBy>
  <dcterms:modified xsi:type="dcterms:W3CDTF">2014-04-04T14:16:42Z</dcterms:modified>
  <cp:revision>119</cp:revision>
  <dc:subject/>
  <dc:title>Голубенко А. Л. Костюкевич А. И. Цыгановский И. А.</dc:title>
</cp:coreProperties>
</file>