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13.wmf" ContentType="image/x-wmf"/>
  <Override PartName="/ppt/media/image47.png" ContentType="image/png"/>
  <Override PartName="/ppt/media/image10.png" ContentType="image/png"/>
  <Override PartName="/ppt/media/image34.png" ContentType="image/png"/>
  <Override PartName="/ppt/media/image53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4.wmf" ContentType="image/x-wmf"/>
  <Override PartName="/ppt/media/image57.png" ContentType="image/png"/>
  <Override PartName="/ppt/media/image20.png" ContentType="image/png"/>
  <Override PartName="/ppt/media/image22.png" ContentType="image/png"/>
  <Override PartName="/ppt/media/image59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61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9.png" ContentType="image/png"/>
  <Override PartName="/ppt/media/image25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9.png" ContentType="image/png"/>
  <Override PartName="/ppt/media/image39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52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4.png" ContentType="image/png"/>
  <Override PartName="/ppt/media/image5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DF3CC-FFD9-4A0B-BB05-F5224FF15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C5311-FECA-48F5-9858-07A009B9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FEB5A-525A-4600-9E78-34A665DE2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9C5CA-E6EA-474B-B25C-3A08FDE9A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6B71-6E0C-41E6-A32E-66C5FC027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A923-682C-4E80-B93A-06055D48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1E32-C11A-480E-BAAB-91C240C6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4274-E902-48E1-A3DE-B66968C5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EE7C4-1652-46C6-B9DC-2472C5B6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F58A-7671-472F-A007-18FD54B8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55C5-497A-4276-82EC-96D12C15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20ADB-9163-4A76-B581-F4AA6E79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3606-A24C-4AE7-B0B9-F773929C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84B2-7190-4055-88C9-0838FBB8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4EC23-FA20-4AAB-BB8D-13D35CEF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CB96-BC3F-4298-835C-368FE65F2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EC1A-18ED-4F22-8D61-673C8CB16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1E4B4-5540-472E-BE4B-0E8DA068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8BCF8-0997-4BAF-BE8B-38701EA2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A8510-3DED-4B30-A107-834A09A8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95567-4C04-4C47-8A26-0B7A278D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7B1BA-8003-430A-8146-D1B2B715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749E9-9FEE-4815-A110-18ADEA1B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D1AD1-BA73-4AC4-A435-955B0A3D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655A-8BF5-4D0B-8B2E-F1E7F1026C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745D-F9D7-4A3F-ADBC-4007B31BF9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848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нистерство образования и науки РФ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ГБОУ ВПО «Брянский государственный технический университ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563640" y="1197000"/>
            <a:ext cx="4895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Федяева Г.А., Матюшков С.Ю., Федяев Н.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11280" y="1989000"/>
            <a:ext cx="6912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-6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ОМПЬЮТЕРНОЕ  МОДЕЛИРОВАНИЕ ДИНАМИЧЕСКИХ ПРОЦЕССОВ В АСИНХРОННОМ ТЯГОВОМ ЭЛЕКТРОПРИВОДЕ МАГИСТРАЛЬНОГО ГРУЗОВОГО ТЕПЛОВОЗА ПРИ НЕСТАЦИОНАР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 АВАРИЙНЫХ РЕЖИМ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22360" y="6353280"/>
            <a:ext cx="134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рянск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36680" cy="13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42960" y="485640"/>
            <a:ext cx="788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дель прямого управления моментом асинхронного двигател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D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9605" r="0" b="0"/>
          <a:stretch/>
        </p:blipFill>
        <p:spPr>
          <a:xfrm>
            <a:off x="22320" y="4208400"/>
            <a:ext cx="5811840" cy="22608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50920" y="141300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тематическая модель 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2952720" cy="17636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3911760" y="1173240"/>
            <a:ext cx="5076720" cy="24796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5867280" y="3848040"/>
            <a:ext cx="3173400" cy="26272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42920" y="371628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ль электропривода 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C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/Simu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172360" y="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684360" y="333360"/>
            <a:ext cx="788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абораторная установка для исследования асинхронного электропривода с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4379760" y="2421000"/>
            <a:ext cx="386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грешность по момент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 скорости не превышает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%</a:t>
            </a:r>
            <a:r>
              <a:rPr b="0" i="1" lang="ru-RU" sz="1600" spc="-1" strike="noStrike">
                <a:solidFill>
                  <a:srgbClr val="9999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8172360" y="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1073160" y="1038240"/>
            <a:ext cx="2951280" cy="22096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9"/>
          <p:cNvSpPr/>
          <p:nvPr/>
        </p:nvSpPr>
        <p:spPr>
          <a:xfrm>
            <a:off x="4211640" y="1052640"/>
            <a:ext cx="43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- электродвигатель АО-42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- электромагнитный торм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- преобразователь частот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S8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7312320" y="407664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кспери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7599600" y="573408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с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Рисунок 1" descr=""/>
          <p:cNvPicPr/>
          <p:nvPr/>
        </p:nvPicPr>
        <p:blipFill>
          <a:blip r:embed="rId2"/>
          <a:stretch/>
        </p:blipFill>
        <p:spPr>
          <a:xfrm>
            <a:off x="663480" y="3429000"/>
            <a:ext cx="2971800" cy="163836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2" descr=""/>
          <p:cNvPicPr/>
          <p:nvPr/>
        </p:nvPicPr>
        <p:blipFill>
          <a:blip r:embed="rId3"/>
          <a:stretch/>
        </p:blipFill>
        <p:spPr>
          <a:xfrm>
            <a:off x="755640" y="5013360"/>
            <a:ext cx="2884320" cy="177624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3" descr=""/>
          <p:cNvPicPr/>
          <p:nvPr/>
        </p:nvPicPr>
        <p:blipFill>
          <a:blip r:embed="rId4"/>
          <a:stretch/>
        </p:blipFill>
        <p:spPr>
          <a:xfrm>
            <a:off x="3747960" y="3343320"/>
            <a:ext cx="3200400" cy="160956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4" descr=""/>
          <p:cNvPicPr/>
          <p:nvPr/>
        </p:nvPicPr>
        <p:blipFill>
          <a:blip r:embed="rId5"/>
          <a:stretch/>
        </p:blipFill>
        <p:spPr>
          <a:xfrm>
            <a:off x="3784680" y="4994280"/>
            <a:ext cx="3163680" cy="184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258920" y="50652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а интерфейса для совмещения УМ  и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ulink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создании электромеханических мод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236680" y="4422600"/>
            <a:ext cx="5940360" cy="22384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8172360" y="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2435400" y="1289160"/>
            <a:ext cx="501624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-276120" y="103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1280" y="40464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дель тепловоза с управлением ТЭП на пределе по сцепле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использованием совмещения  ПК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Lab/Simulink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172360" y="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619280" y="1197000"/>
            <a:ext cx="5913360" cy="557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-276120" y="103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1280" y="404640"/>
            <a:ext cx="8281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магнитные моменты АТД шестиосного локомотива при движении на пределе по сцеплению (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=0,3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172360" y="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7848720" cy="26654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539640" y="4439880"/>
            <a:ext cx="84013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ерегрузки по току двигателей третьей и шестой осей при работе на максимуме кривой сцепления для каждой оси и отсутствии ограничений по току и моменту могут достигать 50 %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хороших условиях сцепления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0,38-0,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низить указанную неравномерность нагрузки можно применением тележек с наклонными тягами, либо догружающих устройст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-276120" y="103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11280" y="404640"/>
            <a:ext cx="8281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лектромагнитные моменты, крип колес и токи АТД 1-й и 6-й осей при регулировании на пределе по  сцеплению 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0,3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172360" y="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496880" y="1125360"/>
            <a:ext cx="5523120" cy="17989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1690560" y="2997360"/>
            <a:ext cx="5402520" cy="18684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1749600" y="4941720"/>
            <a:ext cx="5414760" cy="17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-276120" y="103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1280" y="40464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ертикальные нагрузки колес и крип при заданном моменте и массе состава 2000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172360" y="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839960" y="1025640"/>
            <a:ext cx="4603680" cy="15825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873080" y="2708280"/>
            <a:ext cx="4643640" cy="17953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1928880" y="4581360"/>
            <a:ext cx="4587840" cy="1656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24000" y="6226200"/>
            <a:ext cx="86407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ница вертикальных нагрузок  шестой и первой осей 3 Т при одинаковых моментах АТД  8000 Н 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при реализации предельных усилий эта разница возрастает до  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-276120" y="103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1280" y="40464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ертикальные нагрузки колес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 использовании тележки с наклонной тягой внутри теле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172360" y="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rcRect l="0" t="4290" r="39938" b="60064"/>
          <a:stretch/>
        </p:blipFill>
        <p:spPr>
          <a:xfrm>
            <a:off x="4643280" y="1557360"/>
            <a:ext cx="3745080" cy="14907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4716360" y="3041640"/>
            <a:ext cx="3743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равномерность  осевых  нагрузок снизилась до 1,5 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775040" y="3984120"/>
            <a:ext cx="360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ерегрузки по току снижаются на 20 % за счет более равномерного распределения вертикальных осевых нагруз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65160" y="1228680"/>
            <a:ext cx="4537080" cy="23734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108000" y="3780000"/>
            <a:ext cx="4537080" cy="23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3"/>
          <p:cNvSpPr/>
          <p:nvPr/>
        </p:nvSpPr>
        <p:spPr>
          <a:xfrm>
            <a:off x="171360" y="671400"/>
            <a:ext cx="87487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езультаты моделирования разгона локомотива с составом 4000 тонн при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=0,3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ск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1.5. . . 5 % и высоком демпфировании в элементах тяговой переда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8172360" y="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0" descr=""/>
          <p:cNvPicPr/>
          <p:nvPr/>
        </p:nvPicPr>
        <p:blipFill>
          <a:blip r:embed="rId1"/>
          <a:stretch/>
        </p:blipFill>
        <p:spPr>
          <a:xfrm>
            <a:off x="203040" y="1539720"/>
            <a:ext cx="4221360" cy="1889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1" descr=""/>
          <p:cNvPicPr/>
          <p:nvPr/>
        </p:nvPicPr>
        <p:blipFill>
          <a:blip r:embed="rId2"/>
          <a:stretch/>
        </p:blipFill>
        <p:spPr>
          <a:xfrm>
            <a:off x="4649760" y="1539720"/>
            <a:ext cx="4221360" cy="18892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2" descr=""/>
          <p:cNvPicPr/>
          <p:nvPr/>
        </p:nvPicPr>
        <p:blipFill>
          <a:blip r:embed="rId3"/>
          <a:stretch/>
        </p:blipFill>
        <p:spPr>
          <a:xfrm>
            <a:off x="154080" y="4049640"/>
            <a:ext cx="4344840" cy="1944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3" descr=""/>
          <p:cNvPicPr/>
          <p:nvPr/>
        </p:nvPicPr>
        <p:blipFill>
          <a:blip r:embed="rId4"/>
          <a:stretch/>
        </p:blipFill>
        <p:spPr>
          <a:xfrm>
            <a:off x="4649760" y="4017960"/>
            <a:ext cx="4318200" cy="193212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1"/>
          <p:cNvSpPr/>
          <p:nvPr/>
        </p:nvSpPr>
        <p:spPr>
          <a:xfrm>
            <a:off x="678960" y="3429000"/>
            <a:ext cx="346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Линейная скорость локомотива и кол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2"/>
          <p:cNvSpPr/>
          <p:nvPr/>
        </p:nvSpPr>
        <p:spPr>
          <a:xfrm>
            <a:off x="4852440" y="3429000"/>
            <a:ext cx="41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гловое ускорение корпуса тягового двига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3"/>
          <p:cNvSpPr/>
          <p:nvPr/>
        </p:nvSpPr>
        <p:spPr>
          <a:xfrm>
            <a:off x="748800" y="6093000"/>
            <a:ext cx="34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носительное проскальзывание кол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4"/>
          <p:cNvSpPr/>
          <p:nvPr/>
        </p:nvSpPr>
        <p:spPr>
          <a:xfrm>
            <a:off x="5360040" y="6093000"/>
            <a:ext cx="344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рутящий момент в оси колесной па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-158760" y="620640"/>
            <a:ext cx="949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зультаты моделирования движения локомотива при ухудшенных условиях сцепления и низком демпфировании в тяговой передач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-3240" y="5826240"/>
            <a:ext cx="45720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0,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характеристика сцеп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меет максимум (и падающий участо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97560" y="5877000"/>
            <a:ext cx="43923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0,2, влажные рельс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характеристика сцепления не имеет максимума (и падающего участ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63360" y="1528920"/>
            <a:ext cx="4211640" cy="16891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4338720" y="1503360"/>
            <a:ext cx="4681440" cy="18543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8172360" y="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3"/>
          <a:srcRect l="0" t="0" r="0" b="1734"/>
          <a:stretch/>
        </p:blipFill>
        <p:spPr>
          <a:xfrm>
            <a:off x="0" y="3726000"/>
            <a:ext cx="4356000" cy="17143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4"/>
          <a:srcRect l="0" t="0" r="0" b="1862"/>
          <a:stretch/>
        </p:blipFill>
        <p:spPr>
          <a:xfrm>
            <a:off x="4572000" y="3738600"/>
            <a:ext cx="4321080" cy="17143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755640" y="3306600"/>
            <a:ext cx="763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0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Локомотив с составом 4000 т     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0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55640" y="5419800"/>
            <a:ext cx="763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0,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Локомотив без состава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835280" y="412920"/>
            <a:ext cx="57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уктурная схема ТЭП шестиосного тепловоза с асинхронными двигателя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1806480"/>
            <a:ext cx="4896000" cy="35672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491080" y="1773360"/>
            <a:ext cx="3095640" cy="1989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292720" y="1125360"/>
            <a:ext cx="363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начени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эффициента сцеплени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172360" y="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651640" y="3795840"/>
            <a:ext cx="2881080" cy="20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85840" y="404640"/>
            <a:ext cx="88405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зультаты моделирования разгона и торможения первой оси локомот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составом 4000 т с релейной системой ограничения проскальзы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контролем колебаний при случайном изменении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01520" y="4003560"/>
            <a:ext cx="4356360" cy="17798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8172360" y="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6240" y="3428280"/>
            <a:ext cx="40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нейная скорость локомотива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и колес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1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506920" y="3428280"/>
            <a:ext cx="249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Электромагнитный момент АТ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73080" y="5876280"/>
            <a:ext cx="12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ок фазы АТ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017000" y="5876280"/>
            <a:ext cx="285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 задание на ускорение ротора АТД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  ускорение локомоти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4283280" cy="17510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4500720" y="1673280"/>
            <a:ext cx="4462200" cy="15447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4427640" y="4005360"/>
            <a:ext cx="4500360" cy="171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55640" y="409680"/>
            <a:ext cx="820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авнение работы системы управления с регулированием проскальзывания при отключенном и действующ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тройстве контроля виброускор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172360" y="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8964720" cy="19843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0" y="3573360"/>
            <a:ext cx="8964720" cy="1873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285920" y="5547960"/>
            <a:ext cx="6886080" cy="12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ы моделирования разгона локомотива с составом 4000 т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регулировании ТЭП на пределе по сцеплению в нормальных погодных условиях (</a:t>
            </a: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=0,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скорости локомотива и колес 1…6 осей, устройство контроля виброускорений отключено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скорости локомотива и колес 1…6 осей, устройство контроля виброускорений включен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моменты 1…6 осей (Мо), устройство контроля виброускорений отключено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моменты 1…6 осей (Мо), устройство контроля виброускорений включен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485800" y="33004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003080" y="3306600"/>
            <a:ext cx="31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57800" y="5316480"/>
            <a:ext cx="31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166520" y="528804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755640" y="40968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лияние изменения нагрузок осей на величину ударных моментов АТД при коротком замыкании в инверт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172360" y="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5219640" cy="52754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4730760" y="1451160"/>
            <a:ext cx="42847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возное КЗ в АИН сопровождается тормозным ударным электромагнитным моментом АТД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дель позволяет зафиксировать не только нагрузки в основных элементах передачи, но и изменение вертикальных нагрузок осей, вызванное ударным моментом. Первая ось, на двигателе которой возник ударный момент, догружается. Это препятствует срыву сцепления и торможению ротора (и связанной с ним колесной пары), что способствует возрастанию ударного электромагнитного момент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расчете 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 учетом изменения вертикальных нагрузок максимальный тормозной  момент при КЗ в АИН возрастает на 6 - 7 %, а сам максимум (4,1 номинального значения момента) смещается и наблюдается при скорости локомотива 28 км/ч вместо 24 км/ч для одноосной моде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124000" y="119700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в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2060640"/>
            <a:ext cx="882000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Исследование нестационарных и аварийных режимов и отработку алгоритмов управления  тяговых электроприводов целесообразно   вести с  использованием компьютерных моделей,  максимально приближенных  к реальному объекту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овмещение программных комплексов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tLab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и «Универсальный механизм» позволяет разрабатывать модели тяговых электроприводов, учитывающие как процессы в системе управления, так и динамику механической части, включая изменение  условий сцепления между колесом и рельсом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Разработана модель тягового электропривода шестиосного магистрального  локомотива с реализацией предельных тяговых усилий и контролем фрикционных автоколебаний, исследованы  динамические  процессы в электропривод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172360" y="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476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счетная схема и математическая модель механической части ТЭП оси локомотива с учетом угловых колеб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9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44360" y="1290600"/>
          <a:ext cx="4356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1290600"/>
                    <a:ext cx="4356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106200" y="5380920"/>
            <a:ext cx="4588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– ротор двигателя; 2 – корпус блока «редуктор -двигатель»; 3 – колесная пара; 4 – локомотив и поезд;        5 – рельсовый пу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5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172360" y="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551480" y="1582560"/>
                <a:ext cx="4319640" cy="401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f>
                              <m:num>
                                <m:sSub>
                                  <m:e>
                                    <m:r>
                                      <m:t xml:space="preserve">dω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μ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;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Sup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f>
                              <m:num>
                                <m:sSub>
                                  <m:e>
                                    <m:r>
                                      <m:t xml:space="preserve">dω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μ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μ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μ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f>
                              <m:num>
                                <m:sSub>
                                  <m:e>
                                    <m:r>
                                      <m:t xml:space="preserve">dω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μ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μ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μ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k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1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f>
                              <m:num>
                                <m:sSub>
                                  <m:e>
                                    <m:r>
                                      <m:t xml:space="preserve">dω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2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V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M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μ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;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M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M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;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2403360" y="2979720"/>
            <a:ext cx="34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476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счетная схема и математическая модель механической части ТЭП оси локомотива с учетом угловых и вертикальных колеба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9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859280" y="1224000"/>
                <a:ext cx="4102200" cy="530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f>
                              <m:num>
                                <m:sSub>
                                  <m:e>
                                    <m:r>
                                      <m:t xml:space="preserve">dω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μω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μ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M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μω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μ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;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dω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μ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μω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μ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μ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ϕ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ϕ</m:t>
                            </m:r>
                            <m:r>
                              <m:t xml:space="preserve">)</m:t>
                            </m:r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Кz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ϕ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ϕ</m:t>
                            </m:r>
                            <m:r>
                              <m:t xml:space="preserve">)</m:t>
                            </m:r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Кx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К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M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К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К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f>
                              <m:num>
                                <m:sSub>
                                  <m:e>
                                    <m:r>
                                      <m:t xml:space="preserve">dω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μβ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μω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μ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μM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M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f>
                              <m:num>
                                <m:sSub>
                                  <m:e>
                                    <m:r>
                                      <m:t xml:space="preserve">dω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z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ϕ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ϕ</m:t>
                            </m:r>
                            <m:r>
                              <m:t xml:space="preserve">)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dω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П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z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П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К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z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F</m:t>
                                    </m:r>
                                  </m:e>
                                  <m:sub>
                                    <m:r>
                                      <m:t xml:space="preserve">П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П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z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F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z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F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x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ϕ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ϕ</m:t>
                            </m:r>
                            <m:r>
                              <m:t xml:space="preserve">)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dω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F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x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S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S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limUpp>
                              <m:e/>
                              <m:lim/>
                            </m:limUpp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1,2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N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limUpp>
                              <m:e/>
                              <m:lim/>
                            </m:limUpp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1,2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ΔN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П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Кz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П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172360" y="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2139840"/>
            <a:ext cx="4788000" cy="25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-1620720" y="112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4428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зультаты моделирования динамических процессов в механической части ТЭП оси локомотива при свободном развитии буксования 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,3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207504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58920" y="6342840"/>
            <a:ext cx="669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- линейные скорости колес и локомотива; б- крутящий момент на оси  колесной пар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- крутящий момент на валу рото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172360" y="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63640" y="1214280"/>
            <a:ext cx="547236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789120" y="738000"/>
            <a:ext cx="7788240" cy="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нализ колебаний в частотн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172360" y="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351960"/>
            <a:ext cx="521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ЧХ углового ускорения блока редуктор-двигатель с учетом угловых колебаний при проскальзывании: 1 – 0,7 %; 2 – 3,5 %; 3 – 15 %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48360" y="5868360"/>
            <a:ext cx="374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ЧХ углового ускорения второго колеса при проскальзывании: 2 – 5 %; 3 – 7 %; 4 – 1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148360" y="3357000"/>
            <a:ext cx="374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ЧХ горизонтального ускорения КМБ при проскальзывании: 2 – 5 %; 3 – 7 %; 4 – 1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9280" y="5929200"/>
            <a:ext cx="507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ЧХ углового ускорения блока редуктор-двигатель с учетом угловых и вертикальных колебаний при проскальзывании: 1 – 0,5 %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1,5 %; 3 – 5 %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1" descr=""/>
          <p:cNvPicPr/>
          <p:nvPr/>
        </p:nvPicPr>
        <p:blipFill>
          <a:blip r:embed="rId1"/>
          <a:stretch/>
        </p:blipFill>
        <p:spPr>
          <a:xfrm>
            <a:off x="108000" y="1268280"/>
            <a:ext cx="4537080" cy="183060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3" descr=""/>
          <p:cNvPicPr/>
          <p:nvPr/>
        </p:nvPicPr>
        <p:blipFill>
          <a:blip r:embed="rId2"/>
          <a:stretch/>
        </p:blipFill>
        <p:spPr>
          <a:xfrm>
            <a:off x="4716360" y="1268280"/>
            <a:ext cx="4219560" cy="193536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2" descr=""/>
          <p:cNvPicPr/>
          <p:nvPr/>
        </p:nvPicPr>
        <p:blipFill>
          <a:blip r:embed="rId3"/>
          <a:stretch/>
        </p:blipFill>
        <p:spPr>
          <a:xfrm>
            <a:off x="250920" y="3860640"/>
            <a:ext cx="4394160" cy="208764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" descr=""/>
          <p:cNvPicPr/>
          <p:nvPr/>
        </p:nvPicPr>
        <p:blipFill>
          <a:blip r:embed="rId4"/>
          <a:stretch/>
        </p:blipFill>
        <p:spPr>
          <a:xfrm>
            <a:off x="4788000" y="3933720"/>
            <a:ext cx="4105080" cy="197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62160" y="549360"/>
            <a:ext cx="672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дель тепловоза 2ТЭ25А в ПК «Универсальный механиз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1" descr=""/>
          <p:cNvPicPr/>
          <p:nvPr/>
        </p:nvPicPr>
        <p:blipFill>
          <a:blip r:embed="rId1"/>
          <a:srcRect l="14162" t="14743" r="0" b="0"/>
          <a:stretch/>
        </p:blipFill>
        <p:spPr>
          <a:xfrm>
            <a:off x="179280" y="1268280"/>
            <a:ext cx="3313080" cy="236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" name=""/>
          <p:cNvGraphicFramePr/>
          <p:nvPr/>
        </p:nvGraphicFramePr>
        <p:xfrm>
          <a:off x="4356000" y="981000"/>
          <a:ext cx="3384720" cy="255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56000" y="981000"/>
                    <a:ext cx="3384720" cy="25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2987640" y="4076640"/>
          <a:ext cx="2448000" cy="2071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87640" y="4076640"/>
                    <a:ext cx="2448000" cy="20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-276120" y="103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6360" y="3645000"/>
            <a:ext cx="178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щий вид мод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902480" y="3700440"/>
            <a:ext cx="21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дсистема «тележк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68800" y="6237360"/>
            <a:ext cx="18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дсистема «КМБ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172360" y="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Прямоугольник 4"/>
          <p:cNvSpPr/>
          <p:nvPr/>
        </p:nvSpPr>
        <p:spPr>
          <a:xfrm>
            <a:off x="468360" y="47628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нализ колебаний механической подсистемы тепловоз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ПК «Универсальный механиз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0" y="1413000"/>
            <a:ext cx="3103560" cy="1822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3243240" y="1413000"/>
            <a:ext cx="2522520" cy="1753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"/>
          <p:cNvPicPr/>
          <p:nvPr/>
        </p:nvPicPr>
        <p:blipFill>
          <a:blip r:embed="rId3"/>
          <a:stretch/>
        </p:blipFill>
        <p:spPr>
          <a:xfrm>
            <a:off x="5805360" y="1413000"/>
            <a:ext cx="2914920" cy="190008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1" descr=""/>
          <p:cNvPicPr/>
          <p:nvPr/>
        </p:nvPicPr>
        <p:blipFill>
          <a:blip r:embed="rId4"/>
          <a:stretch/>
        </p:blipFill>
        <p:spPr>
          <a:xfrm>
            <a:off x="1376280" y="3884760"/>
            <a:ext cx="2806920" cy="187632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2" descr=""/>
          <p:cNvPicPr/>
          <p:nvPr/>
        </p:nvPicPr>
        <p:blipFill>
          <a:blip r:embed="rId5"/>
          <a:stretch/>
        </p:blipFill>
        <p:spPr>
          <a:xfrm>
            <a:off x="4759200" y="3884760"/>
            <a:ext cx="2854440" cy="1908000"/>
          </a:xfrm>
          <a:prstGeom prst="rect">
            <a:avLst/>
          </a:prstGeom>
          <a:ln w="0">
            <a:noFill/>
          </a:ln>
        </p:spPr>
      </p:pic>
      <p:sp>
        <p:nvSpPr>
          <p:cNvPr id="169" name="Прямоугольник 5"/>
          <p:cNvSpPr/>
          <p:nvPr/>
        </p:nvSpPr>
        <p:spPr>
          <a:xfrm>
            <a:off x="655560" y="3235320"/>
            <a:ext cx="24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Линейные скорости колес 1…6-й осей и локомоти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6"/>
          <p:cNvSpPr/>
          <p:nvPr/>
        </p:nvSpPr>
        <p:spPr>
          <a:xfrm>
            <a:off x="3392640" y="3235320"/>
            <a:ext cx="235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рутящие моменты на осях 1…6-й колесных па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7"/>
          <p:cNvSpPr/>
          <p:nvPr/>
        </p:nvSpPr>
        <p:spPr>
          <a:xfrm>
            <a:off x="6343560" y="3235320"/>
            <a:ext cx="214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ертикальные ускорения корпусов 1…6-го двига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47920" y="5997600"/>
            <a:ext cx="619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армонический состав вертикального ускорения корпусов тяговых двигателей в начале процесса срыва сцепления при свободном развитии колебаний: а) второй оси; б)  пятой ос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96840" y="570564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26640" y="5705640"/>
            <a:ext cx="31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172360" y="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40464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ункциональная схема управления ТЭП на предел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сцеплению с контролем фрикционных автоколебаний при релейном регулировании и использовани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810"/>
          <a:stretch/>
        </p:blipFill>
        <p:spPr>
          <a:xfrm>
            <a:off x="458640" y="1120680"/>
            <a:ext cx="8137800" cy="57484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868480" y="5616720"/>
            <a:ext cx="1055880" cy="2095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2843280" y="5910120"/>
            <a:ext cx="1147680" cy="216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250920" y="5734080"/>
            <a:ext cx="1314360" cy="4428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696960" y="2941560"/>
            <a:ext cx="2879640" cy="19004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8172360" y="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76360" y="5804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 =0,  1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3:14:15Z</dcterms:created>
  <dc:creator>Goriander</dc:creator>
  <dc:description/>
  <dc:language>en-US</dc:language>
  <cp:lastModifiedBy>Customer</cp:lastModifiedBy>
  <dcterms:modified xsi:type="dcterms:W3CDTF">2014-04-08T19:50:24Z</dcterms:modified>
  <cp:revision>95</cp:revision>
  <dc:subject/>
  <dc:title>Министерство образования и науки РФ Брянский государственный технический университет</dc:title>
</cp:coreProperties>
</file>