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239-D817-4E16-B92A-48F620AF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9A6-DF9E-4803-A719-B51B6956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426-B9CF-43EC-809C-16591748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135-FC76-4D3F-B84D-1BB87992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6E0F-A5B9-4527-9BF8-1CA732F3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974-113F-4A5F-97F5-8FCA621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186-4442-4CB1-B6CF-6486C4A1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BA3-8AB5-4E5F-996C-554EC4F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8CA8-659D-4CB9-85A1-615A20FE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7BF-2C94-4405-8508-C08FA56F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018-DF1C-4A59-B0A2-145A39A7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C75-FB8A-4E01-9250-61F33227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7AC1-D6C3-4308-BC33-53286CA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71C8-F12B-492A-A5A1-94EB9C9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DEE-7533-4704-9727-1A16BC2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A7F4-A7A4-4ED5-B002-548E0B82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507-3644-4085-8437-B0D3752E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464-37CA-46B0-BA28-7775DF09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D1-8051-4075-8541-C6C5815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83E-B70A-4A48-BE32-5A506020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3AD-4681-4D8E-A00F-8F7205E6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966-A7DA-44CD-AD4F-F938501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C65-A487-4100-978B-CAED6CF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03A-FDAE-43A4-B122-957CE4F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F64E-EA08-4E58-8AF8-2CBDEF81B3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B99-1701-4011-A417-8F24255FA2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3924360" y="260280"/>
            <a:ext cx="990720" cy="1295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124"/>
          <p:cNvSpPr/>
          <p:nvPr/>
        </p:nvSpPr>
        <p:spPr>
          <a:xfrm>
            <a:off x="539640" y="3213000"/>
            <a:ext cx="835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МПЬЮТЕРНОЕ МОДЕЛИРОВАНИЕ УСЛОВИЙ ДВИЖЕНИЯ И СХОДА ГРУЗОВОГО ПОЕЗДА</a:t>
            </a:r>
            <a:r>
              <a:rPr b="1" lang="en-US" sz="2400" spc="-1" strike="noStrike">
                <a:solidFill>
                  <a:srgbClr val="000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26"/>
          <p:cNvSpPr/>
          <p:nvPr/>
        </p:nvSpPr>
        <p:spPr>
          <a:xfrm>
            <a:off x="2124000" y="5516640"/>
            <a:ext cx="4791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Колом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2160" y="162864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НИ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33000" y="1700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Таблица результатов расч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561440" cy="394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885080" y="6172200"/>
            <a:ext cx="7556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524-ABA1-4C26-88C2-13B8B697CA79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96456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BC3-514C-40CC-9481-B5FA3C175358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При моделировании продольной динамики максимальные продольные силы получены между сошедшими вагонами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5 тс. Нормативное значение не более 40 тс на участках с ограничением скорости движения по состоянию пути ниже 60 км/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При уточнённом моделировании динамики сошедших экипажей получены боковые силы взаимодейств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- одной колёсной пары с рельсом до 8 тс (допустимо до 13 т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- при групповом взаимодействии колёсных пар тележки до 15 тс (допустимо 18,3 т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Боковые силы полученные при моделировании не превышают нормативных знач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Учитывая оценку технического состояния пути («Техническое заключение по случаю схода подвижного состава в грузовом поезде») и «Заключение по воздействию тяжеловесных поездов на параметры рельсовой колеи на Кузнецовском перевале» установленные в результате расчёта боковые силы подтверждают возможность недопустимого уширения колеи и схода внутрь колеи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колёсных пар трёх последних вагонов и подталкивающего локомоти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оделирование движения поезда с удовлетворительной точностью описывает реальную ситуацию схода грузового поезда</a:t>
            </a:r>
            <a:r>
              <a:rPr b="0" lang="en-US" sz="26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дтверждается эффективность виртуального эксперим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Обеспечивается возможность определ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- продольных сил в поез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- параметров взаимодействия экипажей с рельсовой колеё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Возможность оценить безопасность движения поезда в реальных условиях эксплуат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87240" y="6172200"/>
            <a:ext cx="7322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Цель и задачи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Цель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– моделирование реальной ситуации схода грузового состава. Определение силовых взаимодействий в поезде и значений боковых сил воздействующих на рельс в момент сх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- Разработка расчётной модели поез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- Выполнение виртуальных экспериментов с использованием разработанной мод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- Определение значений боковых сил от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взаимодействия колёс сошедших экипажей с рельс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ценка результатов модел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704232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1BF-BAAD-4B1F-BA9E-7D81A6899B88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Натурный лист поезда (2 локомотива 3ТЭ10+48 полувагонов (4481 т) +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1 локомотив 3ТЭ10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Тип поглощающего аппарата (Ш-2-В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Кривая скорости на скоростемерной лент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План и профиль участка пути, данные путеизмерител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Справка по техническому состоянию пут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Фото и видеоматериалы с места сход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«Заключение по воздействию тяжеловесных поездов на параметры рельсовой колеи на Кузнецовском перевале»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Verdana"/>
              </a:rPr>
              <a:t>Схема схода вагон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4232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A563-37E2-481D-9E5B-0874CA0FA7E7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Исходные да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04232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5C62-1D6F-49D3-9D94-DBDC546EB63B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993080" cy="432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Исходные да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773360"/>
            <a:ext cx="8654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711360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EAA-B841-4B28-83CF-E9B028125D33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700280"/>
            <a:ext cx="828036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3366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50"/>
                </a:solidFill>
                <a:latin typeface="Arial"/>
              </a:rPr>
              <a:t>- Ввод исходных данных по плану и профилю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 Создание модели поезда из одномассовых моделей име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степень свободы связанных поглощающими аппар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 Определение продольных сил, возникающих в автосцепках экипажей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во всех сечениях поезд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и движении состава с заданными парамет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 Включение трёхмерных моделей сошедших экипажей в мод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 Уточнение динамического поведения сошедших экипаж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ределение боковых сил от взаимодействия их колёсных пар с рель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123" descr="Логотип  ВНИКТИ 1"/>
          <p:cNvPicPr/>
          <p:nvPr/>
        </p:nvPicPr>
        <p:blipFill>
          <a:blip r:embed="rId2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Моделирование сх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11360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AA8-763B-424F-925D-F99A1D58E55F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166760" y="763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93080" cy="285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3080" y="494172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рафик набора скорости модельным поез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CC61-B8F9-4611-BF66-474FF02C3F4E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800" y="558972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пределение продольных сил в поезде в момент с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1280" y="1844640"/>
            <a:ext cx="7704000" cy="3457440"/>
            <a:chOff x="611280" y="1844640"/>
            <a:chExt cx="7704000" cy="345744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11280" y="1844640"/>
              <a:ext cx="77040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971640" y="2852640"/>
              <a:ext cx="12254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теплово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3ТЭ10 спере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9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1360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1EE-7C6C-4406-97DE-C0C7941EE090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993080" cy="2995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5013360"/>
            <a:ext cx="7632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арактерная осциллограмма боковых сил при движении гружёного полувагона в кривой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200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 со скоростью 26 км/ч при действии продольных сжимающих сил 35 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773360"/>
            <a:ext cx="79293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508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Положение колёсной пары в рельсовой колее в момент действия боковой силы 8 тс на упорный р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13600" y="6172200"/>
            <a:ext cx="2577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15E-E714-4DA4-80B0-621C98889C5C}" type="slidenum">
              <a:rPr b="1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123" descr="Логотип  ВНИКТИ 1"/>
          <p:cNvPicPr/>
          <p:nvPr/>
        </p:nvPicPr>
        <p:blipFill>
          <a:blip r:embed="rId3"/>
          <a:stretch/>
        </p:blipFill>
        <p:spPr>
          <a:xfrm>
            <a:off x="8101080" y="981000"/>
            <a:ext cx="468360" cy="549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Результаты модел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08:44Z</dcterms:created>
  <dc:creator>nfk</dc:creator>
  <dc:description/>
  <dc:language>en-US</dc:language>
  <cp:lastModifiedBy>Microsoft</cp:lastModifiedBy>
  <dcterms:modified xsi:type="dcterms:W3CDTF">2014-04-07T11:20:01Z</dcterms:modified>
  <cp:revision>175</cp:revision>
  <dc:subject/>
  <dc:title>Слайд 1</dc:title>
</cp:coreProperties>
</file>