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wmf" ContentType="image/x-wmf"/>
  <Override PartName="/ppt/media/image14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CC40-0D1F-4FF3-95E0-71FE92A925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C14C-19B9-4ED9-9F1C-B95889D27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6318-57EA-47E1-A8CA-07E1715A9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в действительности модель удара одного вагона в другой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бычно рассчитывают двухмассовую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9631-3929-4DC5-A811-2D1B13A51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8B4-E40F-4839-8C5D-E01F3869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C02-1CE2-4A20-9144-6191411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2E6-0B4C-4309-A37F-0EB590A4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549-711C-43C9-9DE8-098FFB0B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AAE7-271E-4640-B76D-43B20380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1A2-40A8-4E41-9C57-3A210FF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EA8E-CD70-4678-BC3F-A1F073D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76D-455E-4FAF-834A-0AB98FF5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E684-22B4-4E71-82DE-D1B0779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02B1-46D7-4E8D-BEA6-C3F5FD8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DAAD-A6E0-4C25-BCE1-728D828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105-B6D4-4A3D-AC62-1F6E9F3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80CB-B239-4781-B582-8BE2159E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F2A-6C7C-4F52-9586-1D2A3E5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BE1-59E1-4423-966A-92E648F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7D4-EF59-450C-8867-84FB56B7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E906-FCD7-42D4-9BB3-DCACF32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8D6-EDA6-4342-A331-2527637E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549-83F6-45D5-AD43-8596B19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1FC-E688-4B30-BADA-8E633E7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392-1137-497F-8353-18DF2D8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FD2-DFFD-42E1-90C5-B6E5A8A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BB6-0EC4-4EAE-A1B3-74238C8D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6AA-925F-439C-97B8-106F3C9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4EB-D465-417E-BA9F-C9177533E6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2151-2DAC-4AF9-83CD-3DBD67BE5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0872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ямое моделирование НДС при маневровых соударениях вагона</a:t>
            </a:r>
            <a:br>
              <a:rPr sz="3600"/>
            </a:br>
            <a:br>
              <a:rPr sz="20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4360" y="371628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ьшевский Алексей Андр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ьшевская Мария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янски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лияние деформаций корпуса на работу клиновой систем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6FEE-7913-4E68-A2DE-90BA5193C0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14240" y="1814400"/>
            <a:ext cx="7175520" cy="4500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ая соединительная линия 12"/>
          <p:cNvSpPr/>
          <p:nvPr/>
        </p:nvSpPr>
        <p:spPr>
          <a:xfrm>
            <a:off x="3357720" y="5214960"/>
            <a:ext cx="1500120" cy="64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 стрелкой 13"/>
          <p:cNvCxnSpPr/>
          <p:nvPr/>
        </p:nvCxnSpPr>
        <p:spPr>
          <a:xfrm flipH="1">
            <a:off x="4571640" y="5214960"/>
            <a:ext cx="2160" cy="357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98" name="Прямая со стрелкой 14"/>
          <p:cNvCxnSpPr/>
          <p:nvPr/>
        </p:nvCxnSpPr>
        <p:spPr>
          <a:xfrm flipV="1">
            <a:off x="4572000" y="5714640"/>
            <a:ext cx="2160" cy="356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sp>
        <p:nvSpPr>
          <p:cNvPr id="199" name="TextBox 15"/>
          <p:cNvSpPr/>
          <p:nvPr/>
        </p:nvSpPr>
        <p:spPr>
          <a:xfrm>
            <a:off x="3714840" y="571500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5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7"/>
          <p:cNvSpPr/>
          <p:nvPr/>
        </p:nvSpPr>
        <p:spPr>
          <a:xfrm>
            <a:off x="3357720" y="5072040"/>
            <a:ext cx="1500120" cy="64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8"/>
          <p:cNvSpPr/>
          <p:nvPr/>
        </p:nvSpPr>
        <p:spPr>
          <a:xfrm>
            <a:off x="3357720" y="5214960"/>
            <a:ext cx="1500120" cy="64296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33"/>
          <p:cNvCxnSpPr/>
          <p:nvPr/>
        </p:nvCxnSpPr>
        <p:spPr>
          <a:xfrm flipV="1">
            <a:off x="3714840" y="3285360"/>
            <a:ext cx="643320" cy="143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Прямая со стрелкой 34"/>
          <p:cNvCxnSpPr/>
          <p:nvPr/>
        </p:nvCxnSpPr>
        <p:spPr>
          <a:xfrm flipH="1">
            <a:off x="4857480" y="3000240"/>
            <a:ext cx="2160" cy="64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TextBox 15"/>
          <p:cNvSpPr/>
          <p:nvPr/>
        </p:nvSpPr>
        <p:spPr>
          <a:xfrm>
            <a:off x="3357720" y="3429000"/>
            <a:ext cx="107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4357800" y="371484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Интерполяционный полином для разницы деформаций корпуса на прямом и обратном ход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502840" cy="4753080"/>
          </a:xfrm>
          <a:prstGeom prst="rect">
            <a:avLst/>
          </a:prstGeom>
          <a:ln w="0">
            <a:noFill/>
          </a:ln>
        </p:spPr>
      </p:pic>
      <p:sp>
        <p:nvSpPr>
          <p:cNvPr id="2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B03A-A895-4A5C-897B-4DFF5B12C8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ередаточные функции, учитывающие статическое положение нажимного конуса и опорной пластины при малом ход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Объект 2" descr=""/>
          <p:cNvPicPr/>
          <p:nvPr/>
        </p:nvPicPr>
        <p:blipFill>
          <a:blip r:embed="rId1"/>
          <a:stretch/>
        </p:blipFill>
        <p:spPr>
          <a:xfrm>
            <a:off x="407880" y="2438280"/>
            <a:ext cx="8498160" cy="4426200"/>
          </a:xfrm>
          <a:prstGeom prst="rect">
            <a:avLst/>
          </a:prstGeom>
          <a:ln w="0">
            <a:noFill/>
          </a:ln>
        </p:spPr>
      </p:pic>
      <p:sp>
        <p:nvSpPr>
          <p:cNvPr id="2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3CF0-D59C-4727-885D-CFA211FDB8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хема новой силовой характерис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rcRect l="0" t="0" r="25727" b="0"/>
          <a:stretch/>
        </p:blipFill>
        <p:spPr>
          <a:xfrm>
            <a:off x="1187280" y="1359000"/>
            <a:ext cx="705672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B178-B974-47A8-8276-124DA67FF4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Зависимости силы от времени и силы от хода аппарата при скорости соударения 2,5 м/с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4753080"/>
          </a:xfrm>
          <a:prstGeom prst="rect">
            <a:avLst/>
          </a:prstGeom>
          <a:ln w="0">
            <a:noFill/>
          </a:ln>
        </p:spPr>
      </p:pic>
      <p:sp>
        <p:nvSpPr>
          <p:cNvPr id="2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A55-5DB6-4141-A3CC-1844D5EB7B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Эквивалентные напряжения в хребтовой балке вагона при соударении двух вагонов с аппаратами ПМКП-110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415-C7C2-4598-B1F0-44313ABF34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12880"/>
            <a:ext cx="824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стройство поглощающего аппарата ПМКМ1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100560" cy="3473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900000" y="5344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– корпус; 2 – подвижные пластины; 3 – неподвижные пласт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 – клинья; 5 – нажимной конус; 6 – опорная плита; 7 ‑ стяжной болт с гайкой; 8 – полимерные блоки; 9 – центрирующие пласт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 – опорный э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EB58-A667-43A6-825A-046A540052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счетная схема маневрового  соудар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209840" cy="146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786040" y="2857680"/>
            <a:ext cx="4876920" cy="238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642960" y="5500800"/>
                <a:ext cx="38606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Δx</m:t>
                            </m:r>
                            <m:r>
                              <m:t xml:space="preserve">,</m:t>
                            </m:r>
                            <m:r>
                              <m:t xml:space="preserve">Δv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даточные функции 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Объект 2" descr=""/>
          <p:cNvPicPr/>
          <p:nvPr/>
        </p:nvPicPr>
        <p:blipFill>
          <a:blip r:embed="rId1"/>
          <a:stretch/>
        </p:blipFill>
        <p:spPr>
          <a:xfrm>
            <a:off x="396720" y="1712880"/>
            <a:ext cx="8296560" cy="4889520"/>
          </a:xfrm>
          <a:prstGeom prst="rect">
            <a:avLst/>
          </a:prstGeom>
          <a:ln w="0">
            <a:noFill/>
          </a:ln>
        </p:spPr>
      </p:pic>
      <p:sp>
        <p:nvSpPr>
          <p:cNvPr id="16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E8FB-5CCE-4668-AEF6-507C6D7192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202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счетная и экспериментальная характеристики аппара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1"/>
          <a:srcRect l="11669" t="1715" r="0" b="6028"/>
          <a:stretch/>
        </p:blipFill>
        <p:spPr>
          <a:xfrm>
            <a:off x="611280" y="2286000"/>
            <a:ext cx="3960720" cy="38973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" descr="D:\DSM\DSM\Diplom\ИспытанияПМКП\ПМКП28.jpg"/>
          <p:cNvPicPr/>
          <p:nvPr/>
        </p:nvPicPr>
        <p:blipFill>
          <a:blip r:embed="rId2"/>
          <a:srcRect l="0" t="2413" r="0" b="0"/>
          <a:stretch/>
        </p:blipFill>
        <p:spPr>
          <a:xfrm>
            <a:off x="4859280" y="2286000"/>
            <a:ext cx="3925800" cy="40575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4C8-E7C8-41BB-975E-025AB486F2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счетная схема модели соудар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"/>
          <p:cNvGraphicFramePr/>
          <p:nvPr/>
        </p:nvGraphicFramePr>
        <p:xfrm>
          <a:off x="214200" y="2357280"/>
          <a:ext cx="8729640" cy="24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357280"/>
                    <a:ext cx="872964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Прямоугольник 5"/>
          <p:cNvSpPr/>
          <p:nvPr/>
        </p:nvSpPr>
        <p:spPr>
          <a:xfrm>
            <a:off x="2071800" y="514368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сосредоточенная масса автосцеп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сосредоточенные массы тележ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 упругие элементы тележ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485-49FB-4836-9D10-59948FF7E0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висимость силы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аппарате от х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4214880" cy="357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643280" y="2000160"/>
            <a:ext cx="4286520" cy="35719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1E97-9475-44B3-885E-EB6A99C8E6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7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яжения в шкворневой и хребтовой балке за время уда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Диаграмма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657216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FC60-0321-4418-A368-EAFB553C43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араметрическая КЭ модель ПМКП1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9" descr=""/>
          <p:cNvPicPr/>
          <p:nvPr/>
        </p:nvPicPr>
        <p:blipFill>
          <a:blip r:embed="rId1"/>
          <a:srcRect l="0" t="3943" r="0" b="8639"/>
          <a:stretch/>
        </p:blipFill>
        <p:spPr>
          <a:xfrm>
            <a:off x="324000" y="1628640"/>
            <a:ext cx="4824360" cy="22957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5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708360" cy="22957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Безымянный8"/>
          <p:cNvPicPr/>
          <p:nvPr/>
        </p:nvPicPr>
        <p:blipFill>
          <a:blip r:embed="rId3"/>
          <a:stretch/>
        </p:blipFill>
        <p:spPr>
          <a:xfrm>
            <a:off x="2556000" y="407664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19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E6D-E144-4D9A-A09D-D5DD78012F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5:27:02Z</dcterms:created>
  <dc:creator>Masha</dc:creator>
  <dc:description/>
  <dc:language>en-US</dc:language>
  <cp:lastModifiedBy>OAA</cp:lastModifiedBy>
  <dcterms:modified xsi:type="dcterms:W3CDTF">2014-04-08T08:44:43Z</dcterms:modified>
  <cp:revision>17</cp:revision>
  <dc:subject/>
  <dc:title>УТОЧНЕННАЯ МАТЕМАТИЧЕСКАЯ МОДЕЛЬ АППАРАТА ПМКП110 ДЛЯ ПРЯМОГО ИНТЕГРИРОВАНИЯ УРАВНЕНИЙ ДВИЖЕНИИЯ ПРИ СОУДАРЕНИИ ВАГОНОВ  REFINED MATHIMATICAL MODEL OF CUSHIONING UNIT PMKP110 FOR FORTH INTEGRATION OF MOTION EQUATIONS AT CARS COLLISION</dc:title>
</cp:coreProperties>
</file>